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lmigh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th marvelous wisdom hath made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ked thee with health, and with loving hand guided and stayed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oft in grie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not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ought thee relief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eading His wings for to shade the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all that is i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hath life and breath, come now, with praises bef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A-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 from His people ag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ly for ay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dore H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lmigh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cre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prais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thy heal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lv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hear, now to His temple draw n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 me in glad ador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’er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ondrously reign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elters thee u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ngs, yea, so gently sustaine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not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thy desi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r have bee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ed in what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-dain-eth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42:49Z</dcterms:modified>
  <cp:revision>262</cp:revision>
  <dc:subject/>
  <dc:title>Slide 1</dc:title>
</cp:coreProperties>
</file>