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God I Lift My Voic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the Most High strength no more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His promise fail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thin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use on wonders ol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alk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deed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great like Go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true way is holines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removed from s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God’s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m and streng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 was s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waters of the sea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w and did obe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ouds poured fort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ight-nings flashed; thunders rent the skie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rlwinds shoo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below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ed His flock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God I lift my voic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m I cry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trouble com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seek my Go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night I do not cea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overwhel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remember God and moa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close my ey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onsider days of o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of ancient tim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ommune with mine own heart, search and medita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the Lord cast off His love, and no more be kind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now my lot and trial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His kindness fai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2:21Z</dcterms:modified>
  <cp:revision>269</cp:revision>
  <dc:subject/>
  <dc:title>Slide 1</dc:title>
</cp:coreProperties>
</file>