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i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crossed o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ormy sea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ee the won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 in the d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is goo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His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f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ungr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who are thirsty He satisf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are b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arkness and chains, For their rebell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is goo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ope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isons w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ved men from death where they lay ensl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troub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cried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His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elivered their liv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e does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s of m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they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houts of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songs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9:52Z</dcterms:modified>
  <cp:revision>261</cp:revision>
  <dc:subject/>
  <dc:title>Slide 1</dc:title>
</cp:coreProperties>
</file>