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Our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nations compass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 abou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passed me like be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my strengt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ut them off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pen the gat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righteousn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all the righteous enter 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hall not di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I shall li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all tell of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wor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our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answered 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y salva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be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the chief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ornerst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by the build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s refus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as rejec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His ow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shows us ligh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name of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our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be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mercy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ways endur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s kind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fail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Is-ra-e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nfess t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His mercy alway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endure”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aron’s household now repea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is merc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fail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alled up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my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distress I crie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answered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et me fre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 your confiden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my s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y should I f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men can do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ust not in princ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in ma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tter far to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trust in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15:30Z</dcterms:modified>
  <cp:revision>261</cp:revision>
  <dc:subject/>
  <dc:title>Slide 1</dc:title>
</cp:coreProperties>
</file>