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4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Shall Dwell On Thy Holy Hill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 1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, who shall dwell in the temple of Thy grace?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shall on Thy holy hill have a fixed abiding place?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ho walks in righteousness, all his actions just and clear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hose wor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truth express,                                  spoken fro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heart sincere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ho ne’er wi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landering tongue utters malice and deceit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will ne’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neighbor wrong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r a sland’rou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ale repeat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will claim no usury, nor with brib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ollute his hand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ho thu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frame his lif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unmov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ever sta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22:21Z</dcterms:modified>
  <cp:revision>262</cp:revision>
  <dc:subject/>
  <dc:title>Slide 1</dc:title>
</cp:coreProperties>
</file>