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Shall Build the H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an is bl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ears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ives and wal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His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f his lab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he 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shall prosp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d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ife shall be 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uitful vin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hildren all li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live plan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man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rs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His bles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aff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ild the hou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y buil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il in vain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shiel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uards maintain a useless watc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vain you r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re morning brea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ate your night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igils keep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read of anxi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re partak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gives to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ved sl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children ar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ft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s the bles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ommands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whom in youthful days bestow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like the shafts in warriors’ h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ppy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quivers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ull store of arr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s the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in the ga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free from f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oldly fa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heir enem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9:59Z</dcterms:modified>
  <cp:revision>262</cp:revision>
  <dc:subject/>
  <dc:title>Slide 1</dc:title>
</cp:coreProperties>
</file>