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ruth Everm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’s words are fals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empty and v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utters lie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neighbor he boas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put their trus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flattering speec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xalted are they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ong sons of m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us, O Go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merciful cea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fulness fails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cked men have their 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ll speak li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ith double heart speak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cut off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peak boastful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or men are crush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needy have sigh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ar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deliverer shall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set them saf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promise is p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ruth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20:42Z</dcterms:modified>
  <cp:revision>263</cp:revision>
  <dc:subject/>
  <dc:title>Slide 1</dc:title>
</cp:coreProperties>
</file>