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Unto My Prayer, O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was fai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ried to God, and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id hear my pray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has be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dwelling plac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shelter from the fo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 will I foreverm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praises 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praises to His name fore’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aily pay my vow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un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rayer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earth’s far end I c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ad me to the Roc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res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igher is than I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 have be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shelter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fort against the fo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me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dwelling pl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ide for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 has hea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vows and granted righteous heritag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hare for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trust in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ear His holy n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God prol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true king’s lif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 let Him reig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e may s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ou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throned in righteousn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46:39Z</dcterms:modified>
  <cp:revision>261</cp:revision>
  <dc:subject/>
  <dc:title>Slide 1</dc:title>
</cp:coreProperties>
</file>