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dom Begins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ar of the L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ment and truth are the works of His hand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com-mand-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u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all d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uprightness and tru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forever endur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mption He sent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command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’nant al-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eadfast and 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forever will stan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and rev’rend His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dom begins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ar of the Lor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praise en-dur-eth for ay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aws im-p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der-stand-ing and grac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he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be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ou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whole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,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the upright are assembled for Go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ious works sha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-ev-er  en-dur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honor and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end un-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eousness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works of wo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kes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ay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is g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com-pas-s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a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fear Him our God will prov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His cov-’na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forg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owed His peo-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’r of His work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nds of the heathen to ga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10:31Z</dcterms:modified>
  <cp:revision>267</cp:revision>
  <dc:subject/>
  <dc:title>Slide 1</dc:title>
</cp:coreProperties>
</file>