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erica the Beautifu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beautifu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roes prov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liberating strif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more than self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country love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ercy more than life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erica! America!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God th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ld refine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all succ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noblenes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’ry grace divine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beautifu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patriot drea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sees beyond the year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e alabast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ities glea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dimmed b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uman tears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erica! America!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hed His gr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e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thy go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brotherho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sea to shining se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beautifu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spacious skie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mber waves of grain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pur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untain majesti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the fruited plain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erica! America!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hed His gr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e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thy go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brotherho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sea to shining sea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beautifu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pilgrims fee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ster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mpassioned stress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thorough-f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freedom bea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cross the wilderness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erica! America!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mend thi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flaw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firm thy sou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elf control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liberty in law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0:35:51Z</dcterms:modified>
  <cp:revision>270</cp:revision>
  <dc:subject/>
  <dc:title>Slide 1</dc:title>
</cp:coreProperties>
</file>