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13A-79A6-4AFD-A627-34FC8EB7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C8C-8725-438B-AD18-4250FD14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ADE-577B-4455-A354-2A2747F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E0C-7B55-4E99-B8DB-DAAF03FB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197-F982-4A3F-B60A-045F328D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40D-5480-4515-836E-691356C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2559-7C38-4AFE-B3D9-1F635A3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F427-32CE-43E7-ABEB-CFCC904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591C-8EBB-4358-80A3-91F9E50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4934-7D7C-429D-829F-9C98F65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CAB-1C2A-417D-9F1E-0D81E56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833-2F39-42C9-8B71-E758F29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B663-2212-45B2-8AC3-D62F0FC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DDA9-C480-4D63-93A9-DAF13353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EB0-C681-41CB-BC0D-47205449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05ED-3C1F-4C75-B972-1DE307C6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095-EBF7-4F42-A473-DF426A16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B83-B056-4528-BCE9-FF894D1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7C0-3C36-414A-BCC6-67C42F14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597-A063-4DAE-94FA-CC2C6157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7D4-F9FF-4215-A117-9E9F635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FC7-C34F-4B80-9E6F-2795A26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7D6-298A-4EDD-A8B3-CF73601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24E-4F50-4263-9325-837CE14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D309-B283-4127-9F87-F9162164B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DDA4-DD5F-445E-8334-6D04C023A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THE                      BIBL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HYMNA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2004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00:46:18Z</dcterms:created>
  <dc:creator>David Campbell</dc:creator>
  <dc:description/>
  <dc:language>en-US</dc:language>
  <cp:lastModifiedBy>dwc</cp:lastModifiedBy>
  <dcterms:modified xsi:type="dcterms:W3CDTF">2010-06-20T22:48:34Z</dcterms:modified>
  <cp:revision>28</cp:revision>
  <dc:subject/>
  <dc:title>     Hym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