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18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low the Horn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Zion Hear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eople are faint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t their sight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ey run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ike mighty men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oving each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 his own way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do not tangle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ir paths,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ach does follow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own line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limbing walls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ike men of war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n they charge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s warriors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advance like fighters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on their way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upon the city leap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reak thru weapons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ach unharme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un upon the walls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climb in houses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ru the windows leap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arth is quaking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s they come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avens shak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tars cease to shine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n the Eternal thunders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e sun and moo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come both black!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low the hor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Zion hear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God’s day i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w at hand;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the people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remble in this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ay of cloud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gloominess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roops so great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mighty strong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re has nev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en the like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thing shall escape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as the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evour the stubbl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 their wa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ire before the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devour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lames ablaze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re left behin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uch as Edom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as shall become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 wilderness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’s desolate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ike the nois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chariots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as horsemen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o they run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thing shall escape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as the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evour the stubbl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 their wa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20T22:36:23Z</dcterms:modified>
  <cp:revision>268</cp:revision>
  <dc:subject/>
  <dc:title>Slide 1</dc:title>
</cp:coreProperties>
</file>