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So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His own peopl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ould not hea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ould not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voic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only wa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llowing their own he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y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obe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lking in all My way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ould have soon delivered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ed My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eir foes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songs of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y on the timbr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har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ke a joyful no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and a law God has ordained for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appoi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me to keep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do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lemn feas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joyful noise to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elive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s from s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d us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gypt’s la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cried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bondage the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ear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swered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underclou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nswered us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ear, O My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words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5:14Z</dcterms:modified>
  <cp:revision>260</cp:revision>
  <dc:subject/>
  <dc:title>Slide 1</dc:title>
</cp:coreProperties>
</file>