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7 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w Excellen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s Thy Name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ou hast made him little les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n the angels above;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glor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with dignity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hono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rown’d his head.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ppointed lord of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Thy work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things under his feet: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sheep and oxen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ea, and beast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in the field do stray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w excellent in all the earth, Lord our Lor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s Thy name!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hast Thy glor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ar advanced abov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starry frame.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rom mouths of babes and infants, Lord, strength by Thee is ordained,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 that Thy enemie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 crushed; Thy vengefu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es restrained.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 2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n I look up unto the heav’ns which Thine own fingers framed,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nto the moon 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the stars, which wer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y Thee ordained;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n say I, what i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an that Thou shoul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 mindful of him?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r what, the son of man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Thou so ki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him should be?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20T21:19:20Z</dcterms:modified>
  <cp:revision>260</cp:revision>
  <dc:subject/>
  <dc:title>Slide 1</dc:title>
</cp:coreProperties>
</file>