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reigns! Let us rejoic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multitud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arth be gla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rk clouds surround Him and fire burns his fo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wax the mountains melt at His retur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ghtnings bare the earth; men see and shake! His high autho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procla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ose who idols serve shall be ashame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ah rejoice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 is gla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far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ther gods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exal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the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preserve His saints, those who love Him; Rejoice you righteous and give thank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3:16Z</dcterms:modified>
  <cp:revision>262</cp:revision>
  <dc:subject/>
  <dc:title>Slide 1</dc:title>
</cp:coreProperties>
</file>