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Love, O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eadly shaf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ound He threw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oes disper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ild ret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burning dar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ightnings flew, scattering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ore defea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from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scued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waters swelling hig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ose that hate me set me fr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es that strong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than I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ho but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ld be adored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but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 us befrien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a roc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sides the Lord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else is ab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o defen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Eternal I relied, and over foes prevail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Al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lofty wa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earless scal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l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my m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rock, my hel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ng pow’r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, my tru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hield in f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reat salvat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igh tow’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whom all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ow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all I b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atchful c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fely be guard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y fo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distr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on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d my pray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voice He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emple hea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cry ascend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owed the heav’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igh abo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me in the dar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on a cherub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wiftly ro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the wi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nd His f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5:32Z</dcterms:modified>
  <cp:revision>262</cp:revision>
  <dc:subject/>
  <dc:title>Slide 1</dc:title>
</cp:coreProperties>
</file>