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36 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me, See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rks of Go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me, see the works of God displayed, wonders of His mighty hand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esolations He has made, ruins spread through all the lan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“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still, know I am God Most High; o’er the heathen I will reign.”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of Hosts to us is nigh; Jacob’s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help remain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, our strength and refuge proves, in all distress a present aid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’ the trembl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arth remove, we will never be dismaye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Kingdoms move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nations rage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 earth melt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t His Wor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of hosts for                  us engaged, our refuge high is Jacob’s Go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river flows, whose living streams gladden the city of our Go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ents where heavenly glory beams, where the Lord has His abod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has Zion His dwelling made; she shall nev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ore be move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r God shall early give His aid; He her help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s ever prove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1:41:05Z</dcterms:modified>
  <cp:revision>262</cp:revision>
  <dc:subject/>
  <dc:title>Slide 1</dc:title>
</cp:coreProperties>
</file>