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ou Art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K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ou art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King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Thee exal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 procla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Thee bl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ladly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holy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t gracious i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m compass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so flow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ercy He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ch to bl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unto ang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the Lor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ery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His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ks all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aff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aints, O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name shall bl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Kingdom’s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show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Thy pow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so t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men’s s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eeds may k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’s gr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oth exc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1:07Z</dcterms:modified>
  <cp:revision>263</cp:revision>
  <dc:subject/>
  <dc:title>Slide 1</dc:title>
</cp:coreProperties>
</file>