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Jerus’lem’s f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childr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dom sai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with 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unto the ground, even to the foundations!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ughter of Babyl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ru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’ning 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rewardeth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st as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us hast d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, there we we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sat d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ng our harp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willow tre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y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membered th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capt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quired of us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Sing a song of Zion now!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 we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so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right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her skill, if Jerusalem I forg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fa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member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tong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eave unto my mou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e thou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Jeru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sat n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’s stream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our chief jo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membered Jerusal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6:52Z</dcterms:modified>
  <cp:revision>260</cp:revision>
  <dc:subject/>
  <dc:title>Slide 1</dc:title>
</cp:coreProperties>
</file>