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Jud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Righteous Judge,         from foes defend me,     who deceitful charges lay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, my strength,          my soul deliver, and my treach’rous foes dism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end out Thy light and truth; let them lead and guide me sti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bring me to Thy dwelling; lead me to Thy holy hi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will I come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ltar,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exceeding jo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lyre will I sing praises; un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I’ll s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art thou, my soul, cast down; why art thou disquiete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yet have hope and praise Him; unto God shall I give pra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39:30Z</dcterms:modified>
  <cp:revision>262</cp:revision>
  <dc:subject/>
  <dc:title>Slide 1</dc:title>
</cp:coreProperties>
</file>