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, O God, and Save 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buke me not in anger, Nor in hot displeasure chastise me, O God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gracious,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how me Your mercy; Heal me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languish and ach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God, how l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You in helping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, O God, and save m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liver my soul,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Your great lov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sak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Your mercie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n the gra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is no thought of You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God, my b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wet with weep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faint with moaning because of my foes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God has hea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answer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prayer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foes shall tur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hall be asham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6:04:24Z</dcterms:modified>
  <cp:revision>259</cp:revision>
  <dc:subject/>
  <dc:title>Slide 1</dc:title>
</cp:coreProperties>
</file>