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3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fer Prai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o the wick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n God says, “Why mention My commands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y take my compac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your lips, and ca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words behind?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rk this, you who    forget your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my instruction hat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fore shall none deliver you, 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is is my reproof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, O My peopl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’ll speak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Israel by na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gainst you I will testify, for God, your God, I a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fowls are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Me well-know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mountai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gh do yiel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also cla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all My ow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ild beasts of the fiel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ay all your vows to God Most High; give thanks and offer prais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hen the day of trouble comes, I’ll hear and answer you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nk y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I would eat of flesh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r ask for sacrifice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rather unto 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God, give than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ffer prais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3:54:55Z</dcterms:modified>
  <cp:revision>262</cp:revision>
  <dc:subject/>
  <dc:title>Slide 1</dc:title>
</cp:coreProperties>
</file>