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il Him King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s of ea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kings of we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kings shall homage pa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enemies shall b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rovel in the dust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pities those forlorn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ose who cry to Him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s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k and all oppress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precio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sight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lor’ous na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il Him K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shall He be alwa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od of Israel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lor’ous nam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one wor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nders great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earth shall fil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so, Amen, Amen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e k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judgments God; justice to his royal son!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him judge with equity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l justice to the poor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mountains and the hills bear prosperity for all;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he judge in peace and righ-teous-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fend the needy on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peace aboun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day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the K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nes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lourish t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ndure forevermore!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dominion shall exten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from Z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earth’s en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s and people all will yield to Him; He will rule from sea to sea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50:11Z</dcterms:modified>
  <cp:revision>273</cp:revision>
  <dc:subject/>
  <dc:title>Slide 1</dc:title>
</cp:coreProperties>
</file>