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Thou Awa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Thou away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ill Thy wr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urn like a fir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fore hast Thou made all men in va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God, remember, fleeting is lif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can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ever see death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escap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’r of the grav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s the form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, O my God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unto Davi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pledg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all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lave is scorn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I do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sults of the worl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-with Thy foes mock Thy chosen on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, a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9:26Z</dcterms:modified>
  <cp:revision>260</cp:revision>
  <dc:subject/>
  <dc:title>Slide 1</dc:title>
</cp:coreProperties>
</file>