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Grea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dgment gav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embling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ood still and fear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the mee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 to sa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righteous judg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ppeare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ar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esents b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who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should f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uts off princ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e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earful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kings appear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dah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known and fear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s-ra-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nt in 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rear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oyal s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 hath ma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e broke a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b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ield, the s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ar’s ar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excelle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art Th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glorious f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hills of pr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out of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poiled in f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eadly sl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rrior slep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nd of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n of m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wonted streng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cunning kep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acob’s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y comm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ario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rse went dow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fearfu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temp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y frow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1:38Z</dcterms:modified>
  <cp:revision>263</cp:revision>
  <dc:subject/>
  <dc:title>Slide 1</dc:title>
</cp:coreProperties>
</file>