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2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Many Wise M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 Are Calle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n the foolishn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ser by far than man i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n the weakn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our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ronger far than man i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ns of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all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because of greatnes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m who glor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oast in Chris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in their own greatnes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many wise m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 are call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many noble brethren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many might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osen one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you see your calling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ns of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all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because of greatnes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n the wisdo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manki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to God but foolish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chose the foolis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worl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chose the weak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ase thing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chose the thing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ich are despis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no flesh should glor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ns of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all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because of greatnes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who are call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now in Chris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confound the might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38:18Z</dcterms:modified>
  <cp:revision>261</cp:revision>
  <dc:subject/>
  <dc:title>Slide 1</dc:title>
</cp:coreProperties>
</file>