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y Dwelling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y dwelli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hos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e is bet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a thous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ther d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I may f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lta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Lord, my K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y dwelli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hos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longing, faint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 living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the bi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found its h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ilt a n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lay her you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I may f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lta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Lord, my K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y dwelli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hos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dwell in Thy hou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hy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ma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 f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trength in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tronger day by day, and shall in Zion dwell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7:03Z</dcterms:modified>
  <cp:revision>260</cp:revision>
  <dc:subject/>
  <dc:title>Slide 1</dc:title>
</cp:coreProperties>
</file>