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heerful Vo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eople that on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dwe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heerful v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Him with jo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aises te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ye before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now the Lor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de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out our ai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us mak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His flock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oth us fe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His sh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oth us tak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nter the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tes with pra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ily approa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s cour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and bless His name al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is seem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o d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 the Lor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go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s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ruth at all times firmly sto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from a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ge end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5:13Z</dcterms:modified>
  <cp:revision>261</cp:revision>
  <dc:subject/>
  <dc:title>Slide 1</dc:title>
</cp:coreProperties>
</file>