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y Chasten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in Measur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y loins are filled with burning, health in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more remain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feeble, bruised, and mourning , groaning loud thro’ inward pain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esires and ceas-less wailing, loud unveil’d before Thee lie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nts my heart my strength is fail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ts light has left my ey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do not in hot displeas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y Thy heavy hand on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y chast’ning be in measur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rebukes from anger free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hand most surely presses; fast Thy arrows stick within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rath my weary flesh distresses, give my bones no rest from sin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my head like billows rushing, my transgressions risen a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burden heavy crushing, greater far than I can bea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athsome are my wounds neglected; my own folly makes it so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wed with grief and much afflicted, all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mourning go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32:27Z</dcterms:modified>
  <cp:revision>265</cp:revision>
  <dc:subject/>
  <dc:title>Slide 1</dc:title>
</cp:coreProperties>
</file>