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lift mine eyes unto the hills, for whence does my help co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help comes from the Lord who made the heaven and the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ever let you slip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keeps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sleep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keepeth Israel will never slumber, never sleep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ither sun or moon shall smite you by the day nor by the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rd will keep you from all evil, an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your lif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protect your going out; He’ll protec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coming i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guard and keep your life, from this time forth and evermor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 unto the Lord and He did hear my prayer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y soul from lying lips and from deceitful tongues, O Lor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what will you get from Him? What reward, O crafty tongu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row sharp shall pour on you, with burning coals of junip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e is me that I sojourn in Mesech for so long a ti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, alas that in the tents of Kedar I sh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 there-in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ath long dwelt with them, those who hate the peace I lov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owever peacab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peak to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y’re for w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8:48Z</dcterms:modified>
  <cp:revision>267</cp:revision>
  <dc:subject/>
  <dc:title>Slide 1</dc:title>
</cp:coreProperties>
</file>