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member Us, O Etern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gave them up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ir self-ish de-sir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us, O Lord our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e m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You prais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elujah, praise Him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 for He is go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mer-cy en-dures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show fort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’s great works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show prais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s due unto Him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ppy are the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observe righteousnes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rejoi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Lord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o-sen on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member u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our G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-vor Your peo-p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Your gre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-ing pow’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have all sinn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our fa-thers of ol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were they sav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r wor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ght be kn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did not the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-der-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great work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us, O lord our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Your ow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o-sen on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eld the sea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waters were drie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athers crossed the sea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on wilderness l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ters then rushe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-ver all of their fo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ang His prais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y soon did for-ge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8:20Z</dcterms:modified>
  <cp:revision>268</cp:revision>
  <dc:subject/>
  <dc:title>Slide 1</dc:title>
</cp:coreProperties>
</file>