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You did answer them; You forg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 aveng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, exalt the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n Zion is most grea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King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intains the 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storeth equit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exal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reigne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gh abov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ighty, He is grea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between the cherubim He sit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King and He maintains the 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storeth equit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exalt the Eternal On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 is God and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spoke unto His pries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pillar of the cloud He spo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m who kept His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es is among them, Aaron too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extoll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their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muel also called upon His na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did h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swered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4:34Z</dcterms:modified>
  <cp:revision>260</cp:revision>
  <dc:subject/>
  <dc:title>Slide 1</dc:title>
</cp:coreProperties>
</file>