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6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Shepherd Tha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st Israel Keep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 God of host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long wilt Thou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long wilt Thou declar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smoking wrath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angry brow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gainst Thy people’s prayer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turn to u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grace divin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 of host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vouchsaf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ause Thou, Thy fac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us to shin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n we shall be saf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Shephe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dost Israel keep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ear in time of nee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leade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a flock of shee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loved on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oseph’s see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sit’st betwe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cherubs bright, between their wings outsprea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ine forth, and fro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cloud give ligh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on our foes Thy drea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Ephraim’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n Benjamin’s view and in Manasseh’s sight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wake Thy strength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e and be se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save us by Thy migh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urn us agai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grace divin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us, O God, vouchsaf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ause Thou, Thy fac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us to shin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n we shall be saf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1:55:38Z</dcterms:modified>
  <cp:revision>261</cp:revision>
  <dc:subject/>
  <dc:title>Slide 1</dc:title>
</cp:coreProperties>
</file>