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Lov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dness,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y gracious presence,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cast me not awa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y Holy Spirit take not from me I pra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oy which Thy salvation brings again to me resto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y Spiri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ee do Th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eep me ever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crifice dost Th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want, else wou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give it The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offer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t Thou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not delighted b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 broken spiri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o God a sacrific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 brok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ntrite hear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wilt not despis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In Thy loving-kind-ness, Lord, be merciful to 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compass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blot ou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iniquit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sh me thoroughl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from sin, from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uilt cleanse Thou 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ransgression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I confess; sins I ever se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‘Gainst Thee on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I sinned, done evi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sigh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Thou speak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y be just, and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udging ri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iniquities blot ou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de from Thy view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clean heart mak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pirit right rene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3:55:39Z</dcterms:modified>
  <cp:revision>263</cp:revision>
  <dc:subject/>
  <dc:title>Slide 1</dc:title>
</cp:coreProperties>
</file>