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I will C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cr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my voice wi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 entreat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uring before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wo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over-whelm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in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path 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 hidden sna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ne who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nor ca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refuge sa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re but Go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lp fails that i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from Him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cr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refug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str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, atte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ervent cr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e, for I a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er-y low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 from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-su-ing fo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strength is fa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min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I giv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s to Thy na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boun-ti-f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-ness, L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9:51Z</dcterms:modified>
  <cp:revision>267</cp:revision>
  <dc:subject/>
  <dc:title>Slide 1</dc:title>
</cp:coreProperties>
</file>