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ise, Eternal, O My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ise, Eternal, O my God, lift up Thy hand on high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ut not the po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umble on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t of Thy memor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judge the fatherl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ose beneath oppression so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 man, who is but sprung of earth, may them oppress no m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icked in their pride  pursue and make the poor their pre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m be taken in the snare which the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others lay.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icked, thru his pride of face, on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never ca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the counsels of his heart the Lord is not al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in his heart he thus hath said, “I never moved shall b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no adversity at all shall ever come to me.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cursing, fraud, and foul deceit, his mouth is always filled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vanity and mischief lie beneath his tongue conceal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19:06Z</dcterms:modified>
  <cp:revision>264</cp:revision>
  <dc:subject/>
  <dc:title>Slide 1</dc:title>
</cp:coreProperties>
</file>