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88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Belongs to Go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en make their idol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their hand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s of silver, gods of gol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have mouths bu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 not speak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ars bu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 not hear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-ra-el, trust in God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who fear Hi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bless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be you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lp and shield.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belongs to G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unto u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ternal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unto Thy na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prais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lory unto Thee belongs, truth and mercy sur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who trus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who fear Hi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mall and great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be thei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lp and shield.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belongs to G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God is on 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rone in heav’n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has done wha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leases Him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why do the heathen say, “Where is now your God?”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-ra-el, trust in God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be you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lp and shiel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use of Aaro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rust your Go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lp and shield is H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2:15:17Z</dcterms:modified>
  <cp:revision>261</cp:revision>
  <dc:subject/>
  <dc:title>Slide 1</dc:title>
</cp:coreProperties>
</file>