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God of My Salvatio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urns my eye,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wers languish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re afflictio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esses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cry t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in anguish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ily stretch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nds to The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, my God,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l forsak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st ThouTh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ce from me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 Thou Go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lvatio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and night I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y to Thee;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humb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pplication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quickly bow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 to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ed with grief,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l is sighing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grave m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draws near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umbered n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ong the dying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one helples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ppea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ee to sleep i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’s dark chamb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 slain with-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grave;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m Thou dost n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rememb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m Thy hand no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shall save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pit Th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nd has laid 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darknes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deep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rely has Th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rath dismayed m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my sou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ffliction sweep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8:42Z</dcterms:modified>
  <cp:revision>266</cp:revision>
  <dc:subject/>
  <dc:title>Slide 1</dc:title>
</cp:coreProperties>
</file>