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6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ise and Judg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ternal On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2971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eep not silenc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my Go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r fo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lot their scheme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the name of Israe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y be blotted out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ut them all to sha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they would Your sons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ise and judg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ternal On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 earth is Yours!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men know that you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Eternal On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Most Hig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’er all the earth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men know Your nam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know no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r understan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shall die like men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ise and judg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ternal On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 earth is Yours!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midst of magistrates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Is judgments gives.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is He ask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“How long will you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us unjustly judge,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respect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cked’s caus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righteous blame?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udge the poo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fatherless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udge them righteously.”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arth’s foundation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ve been moved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in darkness walk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udges of the ear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now no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r will understand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has sai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are like god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ns of God most High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they 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die like men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as princes fall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1:56:29Z</dcterms:modified>
  <cp:revision>269</cp:revision>
  <dc:subject/>
  <dc:title>Slide 1</dc:title>
</cp:coreProperties>
</file>