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3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ine Eyes Upon the Lord (Continually Are Set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do Thou keep my soul,     do Thou deliver me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et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 never be ashamed  because I trust in Thee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prightness and truth keep me, who Thee attend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demption,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Israel from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troubles se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ine eyes upon the Lord continually are set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it is that shall bring forth my feet out of the net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 unto me Thy face, and to me mercy show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that I am desolate and am brought very low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eart’s grief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increase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lieve me from distress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 mine afflict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y pai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 my sins forgive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nsider Thou my foes, because they many are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t a cruel hatred is   which the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st me bea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29:46Z</dcterms:modified>
  <cp:revision>262</cp:revision>
  <dc:subject/>
  <dc:title>Slide 1</dc:title>
</cp:coreProperties>
</file>