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66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 of Host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King, My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w behol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our shiel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ok on Thin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ointed one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 my praye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 of host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 of Jacob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w give ea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tter one d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y hou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n a thous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ays withou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tter one d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y hous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 of host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King, my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Eternal, Lord of hosts, how my hear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ries out for The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my sou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ngs for Thy courts and for Thy tabernacles dear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the sparrow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inds a ho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the swallow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inds a nest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are tho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dwell with The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 of host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King, my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y house,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are blest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shall ev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Thy prais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and happ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the ma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se strength is i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his Go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all go fro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trength to strength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appea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fore their Go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of Jacob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 my praye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 of host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King, my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1:57:43Z</dcterms:modified>
  <cp:revision>260</cp:revision>
  <dc:subject/>
  <dc:title>Slide 1</dc:title>
</cp:coreProperties>
</file>