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ope Is in His Wor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-demption al-s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en-te-o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ever found with Him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rom all hi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-iq-ui-ti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-r’el shall re-deem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from the depth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I cried: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voice,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Thou hear: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-to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pplication’s voi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an attentive ea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who shall stan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Thou, O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ld mark iniquit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971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yet with The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-give-ness i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feared Thou mayest b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ait fo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doth wait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ope is in His w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than they tha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orning watch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waits for the Lor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ay, more tha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that do watc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rning light to se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Is-ra-e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pe in the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ith Him mer-cies b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2:29:28Z</dcterms:modified>
  <cp:revision>266</cp:revision>
  <dc:subject/>
  <dc:title>Slide 1</dc:title>
</cp:coreProperties>
</file>