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Praise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unto the Eterna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your hope be in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emains true forever; He gives justice to a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Praise God! The Eternal shall reig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ign for all ages, our King and our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unto the Eterna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your praises to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29714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your trust not in mortal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n them is no help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Praise God! The Eternal shall reig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ign for all ages, our King and our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unto the Eterna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your praises to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t was who made heav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and sea and all thing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Praise God! The Eternal shall reig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ign for all ages, our King and our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33:13Z</dcterms:modified>
  <cp:revision>262</cp:revision>
  <dc:subject/>
  <dc:title>Slide 1</dc:title>
</cp:coreProperties>
</file>