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Law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th and Lov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do not forget Thy law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I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y comman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wick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not seek Thy la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w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far from th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are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rsecutors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I n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ed from The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nsider ho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do love Thy law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la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ruth and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y whole hear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I cried to The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 hear my prayer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keep Thy la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editat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y precep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ight and day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up before the daw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pra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y hope is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voice accord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y great lov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e,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quicken 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ursuers com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alice nea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la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do not keep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near to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Th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mands are tru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founded the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,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valid for all ti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ok on my affliction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 m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love Thy law, O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17:10Z</dcterms:modified>
  <cp:revision>266</cp:revision>
  <dc:subject/>
  <dc:title>Slide 1</dc:title>
</cp:coreProperties>
</file>