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Even Fr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Youth, O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reatn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y pow’r Thou will increase and far extend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st all grie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ev’ry sid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me will comfort se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 will als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y trut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with psalter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Holy O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Israel, with har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sing to The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even from my yout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by The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ve I been taugh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ither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have declar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nd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hast wrough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now, 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sake me no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I am old and gr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ill I procla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ondrous dee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is and ev’ry ag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perfect righteousness, O God, the heaven’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ight exceed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who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Thee, who ha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erformed suc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ighty deeds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, who hast show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 trials so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reat adversitie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quicken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 and bring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e depths of earth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48:39Z</dcterms:modified>
  <cp:revision>260</cp:revision>
  <dc:subject/>
  <dc:title>Slide 1</dc:title>
</cp:coreProperties>
</file>