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t Thou Forget Me,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for m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put my trus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great mercy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shall s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Lor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 His holy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rejoice with my whole heart; in His salvation trus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s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my G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great love to 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t Tho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et me Lord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it forever b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t Tho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hide Thy face from m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take counsel in my soul, and sorr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by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exalted over m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mine enem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my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sider Thou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 answer give to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st I should sleep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leep of death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enlighten L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st mine enemy should s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Against him I prevailed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ose who troubled me rejoice when I am shaken , L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21:24Z</dcterms:modified>
  <cp:revision>265</cp:revision>
  <dc:subject/>
  <dc:title>Slide 1</dc:title>
</cp:coreProperties>
</file>