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Haverg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and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urely follow m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God’s house             for-ever-more                         my dwelling place shall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not wan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kes me down to li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gre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quiet waters b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e do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 ag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 to wal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th mak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pa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n for His 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me’s s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ough I walk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va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will I fear none ill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with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r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a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comfort st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table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furnish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resence of my foe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d Thou do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oil anoi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cup overflows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30:01Z</dcterms:modified>
  <cp:revision>261</cp:revision>
  <dc:subject/>
  <dc:title>Slide 1</dc:title>
</cp:coreProperties>
</file>