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5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oyfully Sing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bless our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peoples, make His praises to be hear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unto H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grateful than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has kept us safe in lif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not allow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feet to slip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’ You have tested u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’ we were captur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our foe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t have You set us fre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will I co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my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pay my vows to Him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Vows which my lips have spoken, which I promised when distress’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you who fear Him, come and hear, come you who worship Him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declare wh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has done, wh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s done for 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called to God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ried out, I extolled Him with high prais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d I of sin been thinking, surely God woul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ver hea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oyfully sing and praise God, all the earth sing forth His prais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God indeed has heard my pray’r; blessed be God who hear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s not check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pray’r to Hi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r His own love to m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and honor gi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m, sing homag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y now t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How dread Your works, how awesome a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deed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great Your pow’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foes submi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ea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s You!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come, and see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works, among men how dread His deed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turned the sea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dry land and the multitudes passed thru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let us all rejoice in Him, who by His pow’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’er rule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se eyes obser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nations watch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ne shall exalt himself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47:53Z</dcterms:modified>
  <cp:revision>261</cp:revision>
  <dc:subject/>
  <dc:title>Slide 1</dc:title>
</cp:coreProperties>
</file>