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We Have He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trust will I place          in my bow to defe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yet on my sword       for my safety depe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 who has saved      us and put them to sha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boast all the day,        ever praising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we have heard and our fathers have taught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ks which of old    in their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wrou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tions were crushed and expelled by Thy ha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st out that Thy people might dwell in their l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gained not the land by the edge of the s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own arm to them could no safety aff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by Thy right hand,     O my Savior and K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mand,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ance br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40:05Z</dcterms:modified>
  <cp:revision>261</cp:revision>
  <dc:subject/>
  <dc:title>Slide 1</dc:title>
</cp:coreProperties>
</file>