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My Earnest Prayer Give Ea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Lo, wand’ring f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rest should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ome lone desert wast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rom the windy storm would flee, and from the tempest haste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stroyed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be; div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fuse their tongu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the city, lo I see great strif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ievous wrong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my earnest prayer give ear, nor hide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ost High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tend my sad complaint, and hear my mourning, bitter cry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of sinful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eep, and persecuting foes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cked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me hea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wrath opposing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re pain in hear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ind no ea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terrors fill my sou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fear and trembling on me seize, and horrors o’er me rol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ad I wings,”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gh and say, “like some swift dove to roam,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would I hast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way, and find a peaceful home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5:41Z</dcterms:modified>
  <cp:revision>266</cp:revision>
  <dc:subject/>
  <dc:title>Slide 1</dc:title>
</cp:coreProperties>
</file>