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Do the Nations Make Plans in Vai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kings be w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ake warning n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me His edict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now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rembling and fear, lest you end in ru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st He be angry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quickly submi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m with rev’ren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ulers of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warning now;        place your tru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One true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do the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plans in va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the One Anointe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ying , “Let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ip off all His chords; break His bands asunder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es their sche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 heaven He laughs; holds them in derisio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peaks to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great wr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is most holy sov’reign thr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, let me t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’s w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rulers of this world;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my s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day I decree: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my begotte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inher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the ear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rule all nation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be K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ear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ru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rod of iro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7T16:21:41Z</dcterms:modified>
  <cp:revision>266</cp:revision>
  <dc:subject/>
  <dc:title>Slide 1</dc:title>
</cp:coreProperties>
</file>