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and Let Us Worship Hi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us worship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bow down with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our kne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Maker, let us f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on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 a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His pastu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shee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almighty ca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in songs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cheerful voices 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oyful shou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the Rock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alvation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His pres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come with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ankful voi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sing psalms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with gr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ke a joyful no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mighty God and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gods He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epths of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in His h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rength of hills is H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pacious sea belo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me did mak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ry land als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han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form at first did ta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2:29Z</dcterms:modified>
  <cp:revision>261</cp:revision>
  <dc:subject/>
  <dc:title>Slide 1</dc:title>
</cp:coreProperties>
</file>