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e I Lift My Sou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tender mercies, Lord, remember, pray I Thee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 loving-kind-ness-es,     for they have 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en of old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ins and faults of youth  do Thou, O Lord, forget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fter Thy mercy,              think on 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or Th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odness grea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e I lift my sou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trust Thee, O my God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e not be ashamed, nor let my fo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iumph o’er me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none that wait on Thee, be put to shame at all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ose that without cause transgre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shame upon them fall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w me Thy way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; O teach Thou me Thy paths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Thy tru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ad me Thyself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in my teacher be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 art God that dost  to me salvation send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upon Thee all the day, expecting, do atte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28:40Z</dcterms:modified>
  <cp:revision>264</cp:revision>
  <dc:subject/>
  <dc:title>Slide 1</dc:title>
</cp:coreProperties>
</file>