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Great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freewill off’r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to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bring in sacrifi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of Th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t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raises will I s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h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ed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adversiti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desi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 hath se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mine enem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great name and judge me by Thy streng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my w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give ear to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angers are to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up against me r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pressors d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care fo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seek to take my li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ighty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lper i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therefore I am b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aketh p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ev’ry one, that do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uph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my watchful f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evil deeds rep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for Thy truth’s s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 them of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ake them all a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4:07Z</dcterms:modified>
  <cp:revision>262</cp:revision>
  <dc:subject/>
  <dc:title>Slide 1</dc:title>
</cp:coreProperties>
</file>