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Sing to the Etern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 hea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t and trembl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read and terr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m f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iefs of Ed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re affright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ll tremb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f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haroah’s horsemen        and his chariots            sank into the churning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,                           led His people                over dry land                 thru the sea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sing to the Eternal; He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ed gloriousl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stretched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rled the foe into the sea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                           You are my strength,       my song,                            my great salv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God and I        will glorify His name!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 will chase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vertake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tch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ivide the spoil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id the fo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 will destroy them,”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fo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rown’d in the sea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Your bl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aters piled up,        tides were damm’d!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who is like You,  glorious in holines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5:02Z</dcterms:modified>
  <cp:revision>263</cp:revision>
  <dc:subject/>
  <dc:title>Slide 1</dc:title>
</cp:coreProperties>
</file>