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6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Etern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 Psalm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I am the God who brought you ou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t from the land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-gyp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, O Isr’e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pen wide your mouth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surely then wi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ill it.”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Israe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not heed G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would ha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own way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, if they on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d obeyed, their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have surely freed the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Etern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 psalm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to the God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a-cob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aise the choru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ke a joyful nois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ring out the harp and tim-bre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ow on the trumpet, sound the dru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our solemn feast d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s is a statute and a law which God has ordained for Isr’e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Etern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 psalm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to the God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a-cob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aise the choru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ke a joyful nois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ring out the har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imbre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ow on the trumpet, sound the dru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our solemn feast d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s is a statut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 law which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 ordained for Isr’e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Hear, O My peopl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y voic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admonis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r’e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shall have n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ther, foreign god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am the God wh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eed you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you were troubled you did call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delivered Isr’el.”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answer’d in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cret place; with thunder He did command the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55:24Z</dcterms:modified>
  <cp:revision>262</cp:revision>
  <dc:subject/>
  <dc:title>Slide 1</dc:title>
</cp:coreProperties>
</file>