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 and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 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ward ev’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for his work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lvation, my hop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in sil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s for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for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not be remov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igh tower of streng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cue 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God al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shall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reatly rem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, 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in silence fo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and refu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in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Rock, my salvation and strength; With God alone shall my deliverance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l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pleasure in s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lot and threat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fe of the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in men are they, delighting in craf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ips they bless with, but they curse inward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w men or hig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th are less than a breath; Trust and rely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xtortion and 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7:20Z</dcterms:modified>
  <cp:revision>262</cp:revision>
  <dc:subject/>
  <dc:title>Slide 1</dc:title>
</cp:coreProperties>
</file>