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Never Fail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truck at Egypt’s stubborn pr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firstbor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took in wra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led His peo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u the sea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is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al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eth great wor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dness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ways endur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never fail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mighty king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ghty nam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destroyed and put to shame; Isr’el was saved from all their foe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God for He is good; He who alone doeth great wor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dness shall always endure; His merc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fail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unto th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Lord of lords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perform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nderful work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tretched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the sea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is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al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eth great wor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dness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ways endur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never fail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t was He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great lights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de the su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r the nigh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oon and stars!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is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al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eth great wor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dness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ways endur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never fail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26:04Z</dcterms:modified>
  <cp:revision>262</cp:revision>
  <dc:subject/>
  <dc:title>Slide 1</dc:title>
</cp:coreProperties>
</file>