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05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ious Thing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Are Spok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ound ea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bitation hov’r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the clou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re appea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 cov’r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ing that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nea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ious thing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are spok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, city of ou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, whose W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not be brok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med thee for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wn abo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ious thing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are spok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, city of ou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, whose W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not be brok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med thee for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wn abo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Rock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es found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can sh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ure repos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alvation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lls surround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mayest smile 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fo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, the stream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 wate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pringing from eternal lov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ll supp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ons and daughters, and all fear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nt rem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faint, whi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 ri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flow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thirst to assuag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ce which lik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he Giv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ai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ge to ag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6T21:50:51Z</dcterms:modified>
  <cp:revision>259</cp:revision>
  <dc:subject/>
  <dc:title>Slide 1</dc:title>
</cp:coreProperties>
</file>