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ear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bread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well with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wife in his house, as a vine that bears fru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sons ‘r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a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like olive plants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Zion the Eternal will this blessing send him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days of his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d his sons shall thri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see Isr’el flouris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erusalem,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0:55Z</dcterms:modified>
  <cp:revision>261</cp:revision>
  <dc:subject/>
  <dc:title>Slide 1</dc:title>
</cp:coreProperties>
</file>