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0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Crimo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ness and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lif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surely follow m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God’s house Foreverm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dwelling pl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not want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kes me down to li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pastures gre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eadeth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quiet waters by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He doth restore again, And me to wal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th mak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the path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’en for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wn name’s sak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though I walk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dark va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will I fear none ill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with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rod and staf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comfort sti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table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furnish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presence of my foes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d Thou do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oil anoin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cup overflow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25:53Z</dcterms:modified>
  <cp:revision>261</cp:revision>
  <dc:subject/>
  <dc:title>Slide 1</dc:title>
</cp:coreProperties>
</file>