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Shall I Go Fro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Spirit, O Go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up to heav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You are the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down to hel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ould so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 me the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take wing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dwell far out at sea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Your right h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hold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darkness com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night covers 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darkness hid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from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even dark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hine as the day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both are alik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knew my li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re before I was bor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vast, O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su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thought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You have search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passed my pat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, O Eternal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all my way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before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 are behi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word on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ngue that You mis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ownfall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uprising You know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knowledge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so far above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shall I g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r spiri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?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shall I fle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r presen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8:33Z</dcterms:modified>
  <cp:revision>267</cp:revision>
  <dc:subject/>
  <dc:title>Slide 1</dc:title>
</cp:coreProperties>
</file>