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srael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 W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at the presence of the Lord, earth Trembled so with f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at the presence Of the God of Jacob did app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the hard and stoney rock did Pools of water br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His pow’r He Turned the flint into a water spr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sr’el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 w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id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welling chan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Jacob’s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nt Out from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ere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nguage stran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Judah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His 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sr’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o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sight of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ea quickly fled, Jordan was driven ba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rams the mountains and like lamb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ills skipp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nd fr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ea, what ails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fl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Jord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turn back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ils you, mountains, that you ski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kip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p like ram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ils you, hill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did lea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did lea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lamb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1:14Z</dcterms:modified>
  <cp:revision>261</cp:revision>
  <dc:subject/>
  <dc:title>Slide 1</dc:title>
</cp:coreProperties>
</file>