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2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f I Have Not Charit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arity will suffer long, charity is kin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nvies not                         nor vaunts itself,                behaveth not unseemly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eketh not                             to have her way,                      nor is easily angere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f I have not charit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I am as nothing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4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arity rejoiceth no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iniquity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rejoiceth in the truth; believes and bear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ing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pes all things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ndures all things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ever thinketh evil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f I have not charit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I am as nothing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ther there be prophecies, whether there be knowledg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se shall likewi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ass awa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charity remaineth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gh I speak with tongues of me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gh I speak as angel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aith and hop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charit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of these abid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among the three of these, charity is greates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f I have not charit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am become as nothing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become a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unding bras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r a tinkling cymba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the gift of prophecy, still I am as nothing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gh I know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mysteries, though I have all knowledg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f I have not charit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am become as nothing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gh I give all I possess, let my body bur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f I have not charit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I am as nothing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2:38:52Z</dcterms:modified>
  <cp:revision>261</cp:revision>
  <dc:subject/>
  <dc:title>Slide 1</dc:title>
</cp:coreProperties>
</file>