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st in Go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and in Aw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O that we m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some good!”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will say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ly look and smile on us, O righteous God!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giv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more jo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 they all know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al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s me to dwe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fely in pe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and answ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ca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righteous God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distr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set me fre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now my prayer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men love vanity; falsehood they seek;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ing glory into shame, they are misl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sons of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 vanity?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 vain intrigu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 after lies?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st in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tand in aw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ease to sin.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w that God h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t ap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godly m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06:17:45Z</dcterms:modified>
  <cp:revision>259</cp:revision>
  <dc:subject/>
  <dc:title>Slide 1</dc:title>
</cp:coreProperties>
</file>