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ange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heaven He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xed His thr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ules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vindicate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he ca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os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been wrong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igh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heav’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endur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loyal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our s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comm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 m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lossoms like a flow’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and his days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gra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rom d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redeems our life and He crowns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lov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His ho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cred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get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benefi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ear His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forg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iniquiti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isea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he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estruc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deems our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crowns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lo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heave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igh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according t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ur many si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the Lord s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lt with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s far as e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from the we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o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us our sin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7:25Z</dcterms:modified>
  <cp:revision>262</cp:revision>
  <dc:subject/>
  <dc:title>Slide 1</dc:title>
</cp:coreProperties>
</file>