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Teach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I May Kno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teach me that I may know of the w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I should go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o Th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lift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t me fr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ll my fo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flee to hide 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me 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ill to do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t my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ad me b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pirit go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my soul from trouble and for Thy name’s sake quicken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ad me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and of refu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mercy’s sak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ut off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foes, destroy the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hich d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fflict my sou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eous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a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ervant, L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31:54Z</dcterms:modified>
  <cp:revision>261</cp:revision>
  <dc:subject/>
  <dc:title>Slide 1</dc:title>
</cp:coreProperties>
</file>