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ver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igns supre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judg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Abrah’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aac and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Him,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 is foreve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onfirm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enan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thous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en-er-a-tio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-ra-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gav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m a possess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n ev-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st-ing do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ir por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aan’s l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to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Abrah’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aac and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Him,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ll up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cred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s deeds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n among nation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of all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rvelous wonde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i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holy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heart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rejoi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eek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ear His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m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and eve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orget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ful work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ememb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His judgmen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d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ememb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 of Isr’e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hosen on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forever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9:00Z</dcterms:modified>
  <cp:revision>262</cp:revision>
  <dc:subject/>
  <dc:title>Slide 1</dc:title>
</cp:coreProperties>
</file>