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9714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Hymn 38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Mt. Zion Stands                    Most Beautifu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Last Verse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s we have heard, we saw within the city of our God,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 city which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 Lord of Hosts established evermore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e of Thy                         loving-kindness thought,    in Thy most holy place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29714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 God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ccording to Thy name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y praise fills all the earth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1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 Lord Eternal                    is most great                         and greatly to be praised!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ithin the city of our God, upon His holy hill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Mount Zion stands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most beautiful,                        the joy of all the land!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280" y="297144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 city of the mighty King doth on her north side stand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04920" y="29714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2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 Within her palaces our God is for a refuge known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or lo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 kings assembled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ogether they did come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hen they beheld it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ll amazed,                       they fled in great dismay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being troubled                 at Thy sight,                     they thence did haste away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0T19:10:47Z</dcterms:created>
  <dc:creator>David Campbell</dc:creator>
  <dc:description/>
  <dc:language>en-US</dc:language>
  <cp:lastModifiedBy>dwc</cp:lastModifiedBy>
  <dcterms:modified xsi:type="dcterms:W3CDTF">2010-06-20T21:41:48Z</dcterms:modified>
  <cp:revision>262</cp:revision>
  <dc:subject/>
  <dc:title>Slide 1</dc:title>
</cp:coreProperties>
</file>