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04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, I Will Praise The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, I will praise Thee with my whole heart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’ll sing Thy prais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fore all the god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ship and bow t’ward Thy holy plac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ing Thy na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y kind love so tru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re than Thy na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Word is enlarged; And when I cri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at d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didst hea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strengthened me wi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strength, O Lord; Kings of the ear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ll then hea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ing The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es, they shall hea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, of Thy way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shall they s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y glory is grea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gh God is hig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poor He respect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strikes the prou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wn from 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v’reign height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gh in the mids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trouble I walk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wilt preser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Thy righ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nd my lif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wilt fulfill Thy purpose for m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steadfast lo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ll endure evermor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2:27:47Z</dcterms:modified>
  <cp:revision>261</cp:revision>
  <dc:subject/>
  <dc:title>Slide 1</dc:title>
</cp:coreProperties>
</file>