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8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turns from hea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Zion shall be bui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His glor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help the destitu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y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despise no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roa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well in safe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shall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re gathe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erv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n Z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eru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k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ee His glor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declared th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Thy face from m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quickly answ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my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rouble come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gra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is withe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a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grass consum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not my life 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my d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n ow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me poor waste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ourn and cannot sleep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melancholy sparrow, like a pelican al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Eternal, hear me, and answer speedi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from me, Lord, for I moan bitter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6:30Z</dcterms:modified>
  <cp:revision>261</cp:revision>
  <dc:subject/>
  <dc:title>Slide 1</dc:title>
</cp:coreProperties>
</file>