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My Shephe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ontgom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rm can befall with my Comforter n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rm can befall with my Comforter ne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affliction my table is sprea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blessings unmeasured my cup runneth o’e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erfume and oil Thou anointest my hea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what shall I ask of Thy providence mor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what shall I ask of Thy providence mor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urely Thy goodness and mercy, O God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ollow my steps all the days of my lif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ollow my steps all the days of my life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my Shepherd, no want shall I know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in Thy house forever-more dwell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in Thy house forever-more d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feed in green pastures,   safe-folded I rest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y soul where the still waters flow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s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and’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ems when oppress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s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and’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ems when oppr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vall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d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death though I stray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ce Thou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uardi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evil I f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rod shall defend me, Thy staff be my stay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5:35:03Z</dcterms:modified>
  <cp:revision>262</cp:revision>
  <dc:subject/>
  <dc:title>Slide 1</dc:title>
</cp:coreProperties>
</file>