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hou From Ev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hou from evi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what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pe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rsue it earnest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keeps the bon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righteous ma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one of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roken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evil slay                           all unrighteous m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tes the p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esolate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d redeemeth the soul that’s His; none shall be desolate trusting H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hou from evi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what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pe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rsue it earnest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just are the eyes of God; His ears are open unto their c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ternal’s face is against them that are evil, doers of wr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uts remembrance off from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s their remembrance from the ea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righteous men cry, God always hears, for He delivereth them from fear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ar unto them of a broken heart, contrite of spirit, God saveth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afflictions that we do have, troubles there be of righteous m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ternal delivereth out from afflictions         the righteous ma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5T23:17:46Z</dcterms:modified>
  <cp:revision>260</cp:revision>
  <dc:subject/>
  <dc:title>Slide 1</dc:title>
</cp:coreProperties>
</file>