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, Eternal On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Eternal O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threa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their bon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lie aroun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cattered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uth of grav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mine ey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per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with them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 fr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nare they la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fa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own ne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Eternal O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voi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unto The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pray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incense b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eve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-ri-fi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a wat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mou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my lip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turn to s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to pract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hear my cr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righteou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mite reprov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s a kin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si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good wi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from s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to work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icked me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nev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ste their feast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judg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rown dow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9:11Z</dcterms:modified>
  <cp:revision>267</cp:revision>
  <dc:subject/>
  <dc:title>Slide 1</dc:title>
</cp:coreProperties>
</file>