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ever with 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my medita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day in my though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held back my feet from the ways of this worl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given me wisd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righteous command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ever with 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more understanding than the ancients of 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precepts I learn ev’ry false way to hat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more understanding for I dwell on Thy la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ever with me;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Thy commands make me wiser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my unfriendly fo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sweet are Thy wor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than honey is sweet!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judgments, Eternal,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 never depar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16:25Z</dcterms:modified>
  <cp:revision>261</cp:revision>
  <dc:subject/>
  <dc:title>Slide 1</dc:title>
</cp:coreProperties>
</file>