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attle Hym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Republ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e swift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nswer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jubilant my fee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marching 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Glory! Glory! Halleluja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Our God is marching 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beauty of the autumn Christ was born across the sea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glory in His bosom that transfigures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e lives to make men holy, let us live to make men fre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God is marching 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Glory! Glory! Halleluja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While God is marching o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have s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lory of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ing of the L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trampling out the vintage where the grapes of wrath are stor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th loosed the fateful lightning of His terrible swift s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ruth is marching 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Glory! Glory! Halleluja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His truth is marching o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sounded forth the trumpet that shall never sound ret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ifting out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ts of men b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judgment s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3:16:34Z</dcterms:modified>
  <cp:revision>259</cp:revision>
  <dc:subject/>
  <dc:title>Slide 1</dc:title>
</cp:coreProperties>
</file>