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35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wake, O Eternal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we have forgotten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name of our Go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r unto some idol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hands spread abroad,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not thee Almight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sees all within,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knows the heart’s secrets, discover this sin?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a, all the day long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y sak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’re consumed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sheep for the slaughte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death we are doomed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wake, O Eternal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leep Thou no mor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ise and our help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st not off evermor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fore me I constantl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 my disgrace;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hame and confusion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ve covered my fac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t sound of the taunte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coffers’ delight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hearts full of hate and revengeful despit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all these sore evil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ve been our sad lo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God and His cov’nant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have not forgot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hearts turned not back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our fee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ve not strayed,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’ broken mid jackal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death for our shad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40:38Z</dcterms:modified>
  <cp:revision>266</cp:revision>
  <dc:subject/>
  <dc:title>Slide 1</dc:title>
</cp:coreProperties>
</file>