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7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ood It Is 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nk the Lo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od men shall flourish like the palm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rong as a ceda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they b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y are plant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God’s hous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y shall gr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in His court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n in age sh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bear frui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ich and green the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r shall b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our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faithful evermor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Rock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ighteous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ood it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ank the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o Thy na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praises sing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o procla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steadfast lo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ch day and decla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faithfulness by nigh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to the music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lut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ith a solem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und upon the ly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y works ha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de me gla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, and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deeds will I sing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are Thy works, Eternal Lor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ep are Thy thought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ou Most High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olish and senseless men will never know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r will underst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way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the wick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prout as gras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evildoe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lourish for awhil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all all b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prooted and destroyed, while Thou ar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rmore suprem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01:47Z</dcterms:modified>
  <cp:revision>260</cp:revision>
  <dc:subject/>
  <dc:title>Slide 1</dc:title>
</cp:coreProperties>
</file>