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5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You First the Kingdom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, the Lord has chosen; do the Work; be strong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ild your house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temple; to God salvation belong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the Lord with perfect heart and with a willing m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sten now and do your part; seek Him and you shall find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the Lord while He may be found, and call while He is n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o Him, for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way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surely h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thoughts 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 our thoughts, n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ways our w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ll mercif’lly pardon and bless us all of our day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the Lord while He may be found, and call while He is ne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urn to Him, forsak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way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surely hea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you first the Kingdom of God and all His righteousn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se things He’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dd to you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richly bl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sk, and it shall be given; seek, and you shall fin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Knock, and it shall be opened; our God is gracious and k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k you first the Kingdom of God and all His righteousn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se things He’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dd to you, and 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ll richly bles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rve the Lord with perfect heart and wi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willing m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sten now and do your part; seek Him and you shall fi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7Z</dcterms:modified>
  <cp:revision>258</cp:revision>
  <dc:subject/>
  <dc:title>Slide 1</dc:title>
</cp:coreProperties>
</file>