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ens God’s Glor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o Declar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w of God is a perfect law, For it converts the soul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ure are the saying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, They mak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mple wis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tatutes of God are right and just, And do rejoice the hear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commandments are pure and clear, And light to the mind they impar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’ns God’s glory do declare, The skies His handiworks teach;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ay after day their speech pours forth, And knowledge, night after nigh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speech no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poken word; Their voic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s never hear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yet their voice spreads to all the earth, Their words to the ends of the worl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v’ns a tent for the sun He made, Which comes forth like a bridegroom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aving his chambe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lowing bright, To ru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urse with jo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’s end its rising is, Its circuit to its end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s nothing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its heat, No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is hidden thereof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