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De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I want You more than gold or silver, only You can satisf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lone ar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al joy giver, and the apple of my ey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lone are my strength, my shield; to You alone may my spirit yie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lone are my heart’s desire, and I long to worship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the deer pants for the water, so my soul longs after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lone are my heart’s desire, and I long to worship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lone are my strength, my shield; to You alone may my spirit yie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lone are my heart’s desire, and I long to worship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’re my friend and You are my brother, even though You are a K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You more than any other, so much more than any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lone are my strength, my shield; to You alone may my spirit yie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lone are my heart’s desire, and I long to worship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2Z</dcterms:modified>
  <cp:revision>258</cp:revision>
  <dc:subject/>
  <dc:title>Slide 1</dc:title>
</cp:coreProperties>
</file>