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1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&amp; Beautifu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m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old w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wint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leasant summer su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pe frui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gard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m ev’ry one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m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ave us ey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 the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ips that we might tel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reat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lmighty who has made all things well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m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m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little fl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pe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little bird that sing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wing color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ir tiny wing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br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auti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and sm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onderfu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them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urpleheaded mountain, the river running b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nse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morn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brightens up the sky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0Z</dcterms:modified>
  <cp:revision>258</cp:revision>
  <dc:subject/>
  <dc:title>Slide 1</dc:title>
</cp:coreProperties>
</file>