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45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Lovel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Thy Dwelling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lovely are Thy dwellings, O Eternal Lord of host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ear unto my praye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 of Israe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a day with Thee is better than a thousand other day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at I may find Thine altars, my Lord, my King, my God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lovely are Thy dwellings, O Eternal Lord of host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soul is longing, fainting, for Thee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O living Go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a, the bird has found its home, built a nest to lay her young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at I may find Thine altars, my Lord, my King, my God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lovely are Thy dwellings, O Eternal Lord of host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ose who dwell i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house shall ev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Thy prais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and happy is the man, who has found his strength in The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stronger day by day, and shall in Zion dwell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8Z</dcterms:modified>
  <cp:revision>258</cp:revision>
  <dc:subject/>
  <dc:title>Slide 1</dc:title>
</cp:coreProperties>
</file>