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7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You Hol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you holy, for I am holy. Know I’ve not redeemed you with silver and go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with the precious blood of My Son, The One slain before earth’s foundations were form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you holy, for I am holy. Live My royal la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Spirit renew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the chosen temple of God. Let My Holy Spirit dwell richly in you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forgiving and tenderhearted. Do justly, love mercy, walk humbly with 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’re My beloved.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My sons. Be holy and blameless ‘til My Kingdom com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3Z</dcterms:modified>
  <cp:revision>258</cp:revision>
  <dc:subject/>
  <dc:title>Slide 1</dc:title>
</cp:coreProperties>
</file>