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sider the Lili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sider the lil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ow they gr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never toi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spin you know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Solomon in all his finery was never arrayed like one of the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ok at the raven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 in the ai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y never s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gather the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your Father feeds them from day to day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you not of far more worth than they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God clothes the grass of the field this w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lives and which dies in a single da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God feeds the birds of the heavens, too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He not do ev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ore for you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So therefore I sa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ake no anxious car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hat you shall e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hat you shall wear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971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seek first God’s kingdom and righteousnes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all these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shall be bless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8Z</dcterms:modified>
  <cp:revision>258</cp:revision>
  <dc:subject/>
  <dc:title>Slide 1</dc:title>
</cp:coreProperties>
</file>