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6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k You, Lo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k you,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comfort th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grant in our ne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y we give it back again to others as You lea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ll our hearts with compassion, forgiveness and concer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us healing faith in Your Spirit, help us Your way to lear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k you, Lord, f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brethren, lov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uth and Your W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k you for the fellowship, and the Shepherd’s voi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’ve hear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your mind be within us, a servant’s heart insti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ke us one wi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nd each oth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purpose to fulfi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k you,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Your blessing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Your Spirit and lov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k you for Your word of truth, and the calling from abov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lp us seek first Your Kingdom, Your righteousness and peac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us vision, faith and endurance, our trust in You increas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k you,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Your mercy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grace ev’ry d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nk you for Your sacrifice, all our sins to wash awa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us daily repentance, and cleanse 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our si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lease restore the jo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salvation, Your peace and love withi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1Z</dcterms:modified>
  <cp:revision>258</cp:revision>
  <dc:subject/>
  <dc:title>Slide 1</dc:title>
</cp:coreProperties>
</file>