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rophet Has Writt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saiah the prophet has written of old How God’s holy kingdom shall com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Son will return in His righteousness; All nations will gather to Hi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rule will be just, He will help all the needy; Holy and faithful is H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at day the Lord will assemble the scattered From each of the wings of the earth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beasts of the kingdom shall peacefully dwell, And children will not be afrai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alf and the lion a child will lead; The leopard will rest with the ki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nothing shall hurt or destroy on His mountain; All will live safely in pea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earth shall be filled with the knowledge of God as The waters that cover the seas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5Z</dcterms:modified>
  <cp:revision>258</cp:revision>
  <dc:subject/>
  <dc:title>Slide 1</dc:title>
</cp:coreProperties>
</file>