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hall earn his daily bread, and it shall be well with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wife in his house, as a vine that bears frui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sons ‘rou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able shall like olive plants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and happy is h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beys and fears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t of Zion the Eternal will this blessing send him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days of his life, he and his sons shall thri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see Isr’el flourish;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, pe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4Z</dcterms:modified>
  <cp:revision>258</cp:revision>
  <dc:subject/>
  <dc:title>Slide 1</dc:title>
</cp:coreProperties>
</file>