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9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ise and Sing His Prais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praise and bless Hi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His works, And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hear His cal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has set His heav’nly throne; From there He rules over al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ise, arise and bl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; Prepare to sing His prais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morning’s dawn to fall of night My prayer and thanks I’ll rais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member all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nefits, His love and kindness show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healing touch, redeeming grace, His mercies on us bestowe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great His mercy is to us, As high as heav’ns abov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s a father sees his child, So gives He to us His lov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ose who turn un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, Whose covenant they know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righteousness will guide their sons In this life and evermo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6Z</dcterms:modified>
  <cp:revision>258</cp:revision>
  <dc:subject/>
  <dc:title>Slide 1</dc:title>
</cp:coreProperties>
</file>