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unt Zion Stands Most Beauti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e have heard, we saw within the city of ou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which the Lord of hosts established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of Thy loving-kindness thought, in Thy mo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 pl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according to Thy name, Thy praise fills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Eternal is most great and greatly to be praise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city of our God, upon His holy hi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unt Zion st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t beautiful, the jo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la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the mighty King doth on her north side st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ithin her palaces our God is for a refuge kn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lo,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s assemb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they did c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y beheld 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amazed, they f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reat dism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ing troubled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ight, they then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haste a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5Z</dcterms:modified>
  <cp:revision>258</cp:revision>
  <dc:subject/>
  <dc:title>Slide 1</dc:title>
</cp:coreProperties>
</file>