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Van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God will set at naught all those who from His precepts str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ir own lies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in vain, and they themselves decei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the wicke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are count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as dros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refore d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hy law and testimonies pu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hate the thoughts of vanity but I do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my shield and hiding plac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on Thy word rel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evildoers are, from me depart aw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e precepts of my God I purpose to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hold and strength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according to Thy faithful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may live 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hope, may n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asham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, hold me safe, and ever in Thy will let me del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or the statut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God I m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deep respec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