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4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 Unto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y Words, O Lord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ut I into Thy hou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ill come in Thy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bundant grace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will worship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fear toward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y holy plac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of watchful enemies, O lead me by Thy grace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Thy righteousness, Thy way make straight before my fac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who trust in The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e glad, in shouts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praise proclaim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ou savest them;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 rejoice who lov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y holy nam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 Lord, unto the righteous man Thou wilt Thy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sing yield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ith favor Thou wilt compass him about as with a shield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ive ear unto my words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my meditation weigh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ar my loud cry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y King, my God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to Thee will pray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Thou shalt early hear my voice;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 early will direct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My prayer to Thee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looking up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 answer will expect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 art not a God who dost in wickedness delight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No evil shall abide with Thee, nor fools stand in Thy sight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ll evildoers Thou dost hate, cut off shall liars be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bloody and deceitful man abhorred is by Thee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1Z</dcterms:modified>
  <cp:revision>258</cp:revision>
  <dc:subject/>
  <dc:title>Slide 1</dc:title>
</cp:coreProperties>
</file>