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all Dwell On Thy Holy Hill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, who shall dwell in the temple of Thy grace?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all on Thy holy hill have a fixed abiding place?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walks in righteousness, all his actions just and clear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se words th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ruth express, spoken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 heart sincer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ne’er with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landering tongue utters malice and deceit;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ll ne’er his neighbor wrong, nor a sland’rou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ale repeat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ll claim no usury, nor with bribes pollute his han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who thus shall fram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is life, shall unmove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 stan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2Z</dcterms:modified>
  <cp:revision>258</cp:revision>
  <dc:subject/>
  <dc:title>Slide 1</dc:title>
</cp:coreProperties>
</file>