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90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e Will I Love, O Lo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deadly shafts around He threw; His foes dispersed in wild retrea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burning darts His lightnings flew, scattering them in sore defeat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ent from heav’n and rescued me from waters swelling high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those that hate me set me free, and foes that stronger were than I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who but God should be adored? Who but our God can us befriend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is a rock besid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? Who else 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ble to defend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the Eternal I relied, and over foes prevaile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the Almighty on my side, their lofty walls I fearless scale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e will I love, O Lord, my might, my rock, my help, my saving pow’r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God, my trust, my shield in fight, my great salvation, my high tow’r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Eternal 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prayer, to whom all praise we ow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shall I by His watchful care safely be guarded from my fo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my distress I call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God, to the Eternal raised my praye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voice He from His temple heard; my cry ascended to His ear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bowed the heav’ns His high abode, came in the dark of nigh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on a cherub swiftly rode, and on the wings of wind His fligh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6Z</dcterms:modified>
  <cp:revision>258</cp:revision>
  <dc:subject/>
  <dc:title>Slide 1</dc:title>
</cp:coreProperties>
</file>