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Shall have Domin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shall have dominion over land and sea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’s remotest regions shall His empire b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God Almigh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oyful Zion sings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alone is glorious, doing wondrous thing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more, ye people, bless His glorious name, His eternal glory through the earth proclai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shall have dominion over land and sea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’s remotest regions shall His empire b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shall have dominion over land and sea, Earth’s remotest regions shall His empire b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that wilds inhabit shall their worship bring, Kings shall render tribute, nations serve our K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shall have dominion over land and sea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’s remotest regions shall His empire b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the needy seek Him, He will mercy show; Yea, the weak and helpless shall His pity know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surely save them from oppression’s might, For their lives are precious in His holy sigh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shall have dominion over land and sea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’s remotest regions shall His empire b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 and forever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name endur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ng as suns continue it shall stand secu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Him forever all men shall be blessed, And all nations hail Him King, of kings confess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6Z</dcterms:modified>
  <cp:revision>258</cp:revision>
  <dc:subject/>
  <dc:title>Slide 1</dc:title>
</cp:coreProperties>
</file>