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28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 See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ks of G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, see the works of God displayed, wonders of His mighty hand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solations He has made, ruins spread through all the la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still, know I am God Most High; o’er the nations I will reign.”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of hosts to us is nigh; Jacob’s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help remain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our strength and refuge proves, in all distress a present aid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the trembling earth remove, we will never be dismay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ingdoms mov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nations rag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earth melt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t His Wor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of hosts for us engaged, our refuge high is Jacob’s Go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river flows, whose living streams gladden the city of our Go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ents where heavenly glory beams, where the Lord has His abod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has Zion His dwelling made; she shall nevermore be move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r God shall early give His aid; He her hel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s ever prove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5Z</dcterms:modified>
  <cp:revision>258</cp:revision>
  <dc:subject/>
  <dc:title>Slide 1</dc:title>
</cp:coreProperties>
</file>