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and Rejoic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arp, with harp and voice of psalms, O sing unto the Lo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rumpets, cornets, gladly sound before the Lord the K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seas and all their fullness roar, the world and dwellers the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floods clap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the hills together joy declar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, for wonders 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arm,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ictory hath w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ye hills, before the Lord; to judge the earth comes H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judge the world with righteousness, His folk with equ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, for wonders 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His holy arm,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ictory hath w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 His salvation, hath caused 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kn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stice in the nations’ sight, He open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th sh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indful of His grace and truth to Isr’el’s house hath be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eat salvation of our God all ends of the earth hath see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earth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send fo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joyful no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your v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oud to Him;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s and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0Z</dcterms:modified>
  <cp:revision>258</cp:revision>
  <dc:subject/>
  <dc:title>Slide 1</dc:title>
</cp:coreProperties>
</file>