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4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 at Rest Child of Go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all are called a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’s sons, and tol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count the cost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ach day the Father comfort gives, tho’ we’re by trials tosse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’re seeking first His Kingdom, and all its righteous ness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hope and trust in peace to come, our faith is in His rest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 at rest, child of God; don’t worry any mor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ose who wait and trust in God shall like mighty eagles soar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ok to God, the Father of love, to His Word and righteous Kingdom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ive today with confidence and hope; trust the God of our salvation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lilies of the field grow, they labor not nor spin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Father clothes them splendidly, He tends them as a frien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et child of God, you’re troubled, you worry for your lif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Just take your faith beyond your fears to Him, the Lord who provide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 at rest, child of God; don’t worry any mor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ose who wait and trust in God shall like mighty eagles soar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ok to God, the Father of love, to His Word and righteous Kingdom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ive today with confidence and hope; trust the God of our salvation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36Z</dcterms:modified>
  <cp:revision>258</cp:revision>
  <dc:subject/>
  <dc:title>Slide 1</dc:title>
</cp:coreProperties>
</file>