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2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One Mi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one love, be on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pirit, knowing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God is n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aw to Him with supplications and rejoice for He will h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His peace then guard your hearts and minds through Jesus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L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ill be transformed to glory. Have one min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of one acc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ve one mind, be of one accord; be steadfa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unselfishl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ined together, standing fast, to share God’s grace with humilit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all things without complaining; your good works come from ab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ill comfort and console you with His fellowship and lov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knee should bow before Him; ev’ry tongue His praises mak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re called to a great salvation and if need suffer for His sak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o worship Chri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pirit have n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nfidence in ma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ghteousness through faith is blameless; walk according to God’s pla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2Z</dcterms:modified>
  <cp:revision>258</cp:revision>
  <dc:subject/>
  <dc:title>Slide 1</dc:title>
</cp:coreProperties>
</file>