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d of Abrah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d whom Abra’m praised still works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tod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was, and is, and is to be our God al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 His Kingdom comes, with Abraham we will s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aises of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through all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hall ring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God of Abraha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ing praises to His nam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s, and is, and is to be, and still the sam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ne eternal God, formed all that now appear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irst, the Last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all thought His timeless year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Spirit flowing free, high surging where it wi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prophet’s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spoke of ol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’s speaking still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stablished is His law, and changeless it shall st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ngraved upon the human heart, on sea or la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9Z</dcterms:modified>
  <cp:revision>258</cp:revision>
  <dc:subject/>
  <dc:title>Slide 1</dc:title>
</cp:coreProperties>
</file>