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es’ New So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fear consumes the hearts of those outside God’s free repriev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know He i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ee His wor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never do belie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now sing unto the Lord for He has triumphed gloriousl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ear and doubt and blind confusion He removed to set us fr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n God’s great pla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His time there’s hope for ev’ryon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bring the day when Christ will reign and unbelief is g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’s mounted fo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faithless fear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less enmit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horse and rider, long ago, He’ll bury in the sea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sing unto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for He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 gloriousl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install a godly kingdom built to last eternal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ur God was Israel’s strength and saved them that great d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rought their fo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the sea, 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hed them all aw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ighty hand and awesome pow’r our God had overthrow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srael’s foes, as stubble burned, or sunk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st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rael sang unto the Lord for God had triumphed gloriousl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horse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riders He ha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wn into the sea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s no one like our glorious God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ndrous holines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ercy and with tender care He saves those who are H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2Z</dcterms:modified>
  <cp:revision>258</cp:revision>
  <dc:subject/>
  <dc:title>Slide 1</dc:title>
</cp:coreProperties>
</file>