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Our Redeem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give thanks to our Redeemer; With great joy we praise God’s na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our Savior, and forget not All God’s mercies to proclai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forgives all our transgressions; All diseases gently heal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redeems us from destruction, And with all so kindly deal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r as east from west is distant, God has put away our s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er than the love of parents, Has the Lord’s compassion be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our Maker, all you creatures! Sing with joy and praise His na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is our Lord and Shepherd Will forever be the s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1Z</dcterms:modified>
  <cp:revision>258</cp:revision>
  <dc:subject/>
  <dc:title>Slide 1</dc:title>
</cp:coreProperties>
</file>