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8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 With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 with you till we meet again; By His counsels guide, uphold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shepherd’s care enfold you; God be with you till we meet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 with you till we meet again; ‘Neath His wings of shelter, hide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ily bread He will provide you; God be with you till we meet ag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 with you till we meet again; If a trial should confound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put His arms around you; God be with you till we meet ag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be with you till we meet again; May His love be ever o’er you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rike death’s threat’ning wave before you; God be with you till we meet agai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3Z</dcterms:modified>
  <cp:revision>258</cp:revision>
  <dc:subject/>
  <dc:title>Slide 1</dc:title>
</cp:coreProperties>
</file>