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tender mercies, Lord, remember, pray I The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ingkindnesses, for they have ever been of ol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ins and faults of youth do Thou, O Lord, forget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fter Thy mercy, think on me, and for Thy goodness grea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I lift my soul; I trust Thee, O my Go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me not be ashamed, nor let my foes triumph o’er 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ne that wait on Thee, be put to shame at all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ose that without cause transgress, let shame upon them fall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 Thy ways, O Lord; O teach Thou me Thy path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truth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hyself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rein my teacher b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God that dost to me salvation sen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upon Thee all the day, expecting, do atten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