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Things Now Liv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law He enforces: the stars in their cours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un in its orbit, obediently shi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ills and the mountains, the rivers and fountain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deeps of the ocean proclaim Him divi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, too, should be voicing our love and rejoici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glad adoration a song let us rais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 all things now living unite in thanksgiving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od in the highest, hosanna and prais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things now living a song of thanksgiving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od the Creator triumphantly rais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fashione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us, protec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tayed u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guideth us on to the end of our day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banners are o’er us, His light goes before u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pillar of fire shining forth in the n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 shadows have vanished and darkness is banishe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forward we travel from light into l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5Z</dcterms:modified>
  <cp:revision>258</cp:revision>
  <dc:subject/>
  <dc:title>Slide 1</dc:title>
</cp:coreProperties>
</file>