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49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Our Father, Christ Our Broth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, in love and great compassion views us all most tenderl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ows us mercy, gives us power, and from sin He sets us fre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our Father! Christ our Brother! God has planned for us to b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ns forever i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Kingdom, 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ternal famil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returning of Messiah, Priest with kingly diadem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begins the fina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teps to reconcile 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en to Him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our Father! Christ our Brother! God has planned for us to b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ns forever i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Kingdom, 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ternal famil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of glory, God of power, Mighty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ternal On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revealed to us the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ast days as the Fath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y His So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our Father! Christ our Brother! God has planned for us to b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ns forever i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Kingdo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eternal famil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Jesus, Son of God, Messiah, left His awesome heav’nly thron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ved and died a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and man, 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uman sinners to aton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our Father! Christ our Brother! God has planned for us to b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ns forever i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Kingdom, 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ternal famil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37Z</dcterms:modified>
  <cp:revision>258</cp:revision>
  <dc:subject/>
  <dc:title>Slide 1</dc:title>
</cp:coreProperties>
</file>