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Shall the Young Direct Their 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shall the young direct their way? What light shall be their perfect guid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, O Lord, will safely lead, If in its wisdom they confi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cerely I have sought Thee, Lord, O let me not from Thee depar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know Thy will and keep from sin Thy Word I cherish in my he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blessed Lord, teach me Thy law, Thy righteous judgments I decla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testimonies make me glad, For they are wealth beyond compa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y precepts and Thy ways My heart will meditate with aw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Word shall be my chief delight, And I will not forget Thy law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3Z</dcterms:modified>
  <cp:revision>258</cp:revision>
  <dc:subject/>
  <dc:title>Slide 1</dc:title>
</cp:coreProperties>
</file>