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arp, with harp and voice of psalms, unto our great God s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rumpets, cornets, gladly sound before the Lord the K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seas and all their fullness roar; the world and dwellers the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floods clap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the hills together joy decla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, for wonders He hath d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holy arm the victory hath w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 before Almighty God, to judge the earth comes H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ll jud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with righteousness, His folk with equ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a new song to the Lord, for won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d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ight h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arm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ictory hath w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His salvation hath caused it to be kn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justice in the nations’ sight He openly hath sh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indful of His grace and truth to Israel’s house hath be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eat salvation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all end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have se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the earth 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a joyful noi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voice alou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, sing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jo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0Z</dcterms:modified>
  <cp:revision>258</cp:revision>
  <dc:subject/>
  <dc:title>Slide 1</dc:title>
</cp:coreProperties>
</file>