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ank We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raise and thank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, the Fa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be giv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on, the One who reigns with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highest heave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one Eternal God, whom earth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v’n ad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us it was, is 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hall be 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ank we all our God with hearts and ha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voic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ondrous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th don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whom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urch rejoic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our mothers’ arms hath blessed us on our wa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ountless gifts of love, and still is ours tod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ay this bounteous God through all our lives be near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ver joyful hearts and blessed pea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cheer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keep us in His grace, and guide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perplexe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ee us from all ills in this world and the nex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1Z</dcterms:modified>
  <cp:revision>258</cp:revision>
  <dc:subject/>
  <dc:title>Slide 1</dc:title>
</cp:coreProperties>
</file>