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83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God of Every Natio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3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ord, strengthen thos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 labor that al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ay find release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rom fear of rattling saber, from dread of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ar’s increas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en hope a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ourage falter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ord let Your voic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 heard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faith tha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ne can alter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our servants undergird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Keep bright in us the vision of days when war shall cease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en hatred and division give way to love and peace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‘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il dawns the morning glorious when peace on earth shall reign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Christ shall rule victorious o’er all the world’s domain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God of ev’ry nation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ev’ry race and land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Redeem the whole creation with Your almighty hand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ere hate and fea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ivide us and bitte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reats are hurled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love and merc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uide us and hea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ur strifetorn world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rom search for wealth and power and scorn of truth and right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rom trust in bomb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at shower destruction through the night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rom pride of race and station and blindness to Your way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eliver ev’ry nation, Eternal God, we pray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44Z</dcterms:modified>
  <cp:revision>258</cp:revision>
  <dc:subject/>
  <dc:title>Slide 1</dc:title>
</cp:coreProperties>
</file>