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s Pres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s, His truth endureth forever, and His mercy lasts for all ti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God everlasting, God our Fathe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and kind: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made us; we are His people; and His sheep all follow His voic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s presence with singing; come before Him as we rejoic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s presence with singing; make a joyful noise to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serve the Lord filled with gladness, singing praises with one accor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m with your thanksgiving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fore His thron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ing your praises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be thankful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His na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out all your day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s presence with singing; make a joyful noise all you land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God, our Lord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 made us by the power of His comman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courts sing loudly before Him, as we worship God with our prais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 before His presence with singing, as our hearts and voices we rais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0Z</dcterms:modified>
  <cp:revision>258</cp:revision>
  <dc:subject/>
  <dc:title>Slide 1</dc:title>
</cp:coreProperties>
</file>