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amb of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 myst’ry concerning this plan that We mad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t before the foundati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o you it’s revealed; you may understa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great pear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nowned for its wo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ce and peace to you from the One who was, And who is and y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o co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ful witness, firstborn from the dead, Jesus Christ the Lamb of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“I’m the Alpha, Omega, beginning and end,”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ays our Savio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Jesus Chris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is he who will read and attend these words, Written in the gre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ook of Lif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ce and peace to you from the One who was, And who is, and ye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 to co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ful witness, firstborn from the dead, Jesus Christ the Lamb of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ven churches among golden candlesticks and to all, see you heed what I s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f you overcome and endure all things, upon you will I write My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am He who died and arose from the grav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behold I live 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ithful witness, firstborn from the dead, Jesus Christ the Lamb of Go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4Z</dcterms:modified>
  <cp:revision>258</cp:revision>
  <dc:subject/>
  <dc:title>Slide 1</dc:title>
</cp:coreProperties>
</file>