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Grea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 God His judgment gave; the trembling earth stood still and fear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ll the meek on earth to save, for righteous judgment God appeare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around their presents bring to Him whom all the world should fear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cuts off princes; God the King fearful to earth’s kings shall appear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dah God is known and feared; in Israel His name is g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nt in Salem He hath reared; His royal seat in Zion hath ma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e broke arrows of the bow, the shield, the sword and war’s ar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excellent, O Lord, art Thou, more glorious far than hills of pr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out of heart are spoiled in fight; a deadly sleep the warrior slept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and of all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of might i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nted strength or cunning kep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Jacob’s God, at Thy command, the chariot and the horse went down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fearful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stand, in the tempest of Thy frown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7Z</dcterms:modified>
  <cp:revision>258</cp:revision>
  <dc:subject/>
  <dc:title>Slide 1</dc:title>
</cp:coreProperties>
</file>