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mmer and winter, and springtime and harv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n, moon and stars in their courses ab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 with all nature in manifold witnes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great faithfulness, mercy and l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! Great is Thy faithfulnes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ning by morning new mercies I s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 have needed Thy hand hath provid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, Lord, un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rdon for sin and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ace that endur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e own dear presence to cheer and to gu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my Father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 for today and bright hope for tomorr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ings all mine, with ten thousand besid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! Great is Thy faithfulnes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ning by morning new mercies I s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 have needed Thy hand hath provid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, Lord, un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is no shadow of turning with The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u changest not, Thy compassions, they fail no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u hast been Thou forever wilt b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! Great is Thy faithfulness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orning by morning new mercies I se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 have needed Thy hand hath provid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y faithfulness, Lord, un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7Z</dcterms:modified>
  <cp:revision>258</cp:revision>
  <dc:subject/>
  <dc:title>Slide 1</dc:title>
</cp:coreProperties>
</file>