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79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Mercy Never Fail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ive thanks unto the Lord; He struck at Egypt’s stubborn prid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firstborn He took in wrath; He led His people thru the sea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thanks to God for He is good; He who alone doeth great work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kindness shall always endure; His merc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ever fail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ive thanks unto the Lord; for mighty kings of mighty name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destroyed and put to shame; Isr’el was saved from all their foe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thanks to God for He is good; He who alone doeth great work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kindness shall always endure; His merc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ever fail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O give thanks unto the Lord; give thanks unto th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lords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e performs wonderful works; He stretched the earth above the sea!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Give thanks to God for He is good; He who alone doeth great works!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is kindness shall always endure; His mercy never fails!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O give thanks unto the Lord; for it was He who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made great lights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 day He made the sun and for the night,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 moon and stars!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Give thanks to God for He is good; He who alone doeth great works!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kindness shall always endure; His merc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ever fail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4Z</dcterms:modified>
  <cp:revision>258</cp:revision>
  <dc:subject/>
  <dc:title>Slide 1</dc:title>
</cp:coreProperties>
</file>