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 Me &amp; My Hou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through all the ages, Your true faithful have held fa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holy way of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s made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ear intent to la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much pa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uff’r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o few will do the r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quickl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deliver us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O now please se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ack the 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 me and my house, we will serve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foreve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aithful fath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nored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lso shall obe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ily we loo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Your coming, watchfully we wa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e blessings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ti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early, never lat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hear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inds,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lready have a h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ease bless this fami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p us to g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Your 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for me and my house, we will serve You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foreve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st as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Abraha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lso shall obe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n truth and spirit we’ll serve only You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know You want to bless us all with everlasting l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hearts and minds, Lord, You already have a h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Your retur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amily will become Your very ow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mercy, Fa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revealed to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plan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gave the w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peace and lif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sinful, mortal m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1Z</dcterms:modified>
  <cp:revision>258</cp:revision>
  <dc:subject/>
  <dc:title>Slide 1</dc:title>
</cp:coreProperties>
</file>