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5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, our loving Shepherd, calling to His flock by na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uarding from the wolf and stranger, watching o’er the weak and la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ently chiding, firmly guiding, leading thro’ the dark and col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ringing sheep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y pasture to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e eternal fol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, our God in heaven, ruling from His throne on high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unders, lightning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a of crystal, ever veiled from mortal ey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gels praising, voices raising, to the great Eternal On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gh enthroned in rainbow splendor, brighter than the noonday su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, our great Creator, stretching forth a mighty ha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ery suns and distant planets, moving all at His comma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mpests roaring, mountains soaring, witness to His pow’r and mi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pomp and pride of nations are as nothing in His s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9Z</dcterms:modified>
  <cp:revision>258</cp:revision>
  <dc:subject/>
  <dc:title>Slide 1</dc:title>
</cp:coreProperties>
</file>