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St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in spirit we worship together With purpose and oneness of m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stand, faithful and true to the One who is Lord Most Hi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stand, mothers and daughters who nurture the heart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mi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sen and called to love His commandments, Like Deb’rah and Ruth let us strive to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pray let us always rememb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onor these days which are holy ti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in spirit we worship together With purpose and oneness of m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stand, faithful and true to the One who is Lord Most Hi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stand, hearts that are grateful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 be the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His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st’ry of ages revealed in the pages Of God’s holy Word, inspired of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pray let us always rememb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onor these days which are holy ti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in spirit we worship together With purpose and oneness of m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stand, faithful and true to the One who is Lord Most Hi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stand, fathers and sons who believe in the holy laws of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sen and called to love His commandmen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lead by example as Christ has sh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ed we pray let us always rememb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onor these days which are holy ti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3Z</dcterms:modified>
  <cp:revision>258</cp:revision>
  <dc:subject/>
  <dc:title>Slide 1</dc:title>
</cp:coreProperties>
</file>