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6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I am Call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Your Na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days are filled with woe and strife, Keep vision clear. Eternal lif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es just ahead where no man can Remove me from Your loving han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I am call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Your na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h Lord, God of hosts, I am called by Your nam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h Lord, I ask, remember me That I may walk in conscience fre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r way its wisdom does impart. Your words put joy in to my hear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I am calle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Your na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h Lord, God of hosts, I am called by Your nam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t times beset by troubles drear, I want my Shepherd’s voice to hear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edeem me from the darkest grip Of Satan’s wrath and lying lip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I am called by Your name; Oh Lor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of hosts, I am called by Your nam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40Z</dcterms:modified>
  <cp:revision>258</cp:revision>
  <dc:subject/>
  <dc:title>Slide 1</dc:title>
</cp:coreProperties>
</file>