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40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Hail the Pow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Him all majesty ascribe, and crown Hi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all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hat, with yond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gel throng, we a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feet may fall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’ll join the everlasting song, and crown Hi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al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’ll join the everlasting song, and crown Hi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all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hail the pow’r of Jesus’ name! Let angel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ostrate fal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hold the royal diadem, and crown Hi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al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hold the royal diadem, and crown Hi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all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e chosen seed of Israel’s race, ye who did hea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call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Him who saves you by His grace, and crown Him Lord of al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Him who saves you by His grace, and crown Him Lord of all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ev’ry kindre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ev’ry tribe, on this terrestrial ball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Him all majesty ascribe, and crown Hi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al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5Z</dcterms:modified>
  <cp:revision>258</cp:revision>
  <dc:subject/>
  <dc:title>Slide 1</dc:title>
</cp:coreProperties>
</file>