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971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ymn 128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ious Things of Thee Are Spok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Last Verse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Round each habitation hov’ring, see the cloud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nd fire appear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For a glory and 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ov’ring, showing that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is near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ious things of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spoken, Zion city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, whose Word cannot be broken, formed thee for His own abod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1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lorious things of the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are spoken, Zion,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city of our God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He, whose Word cannot be broken, formed thee for His own abod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Rock of Ages founded, what can shake thy sure repos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salvation’s walls surrounded, thou mayest smile at all thy foe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e 2 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See, the streams of living waters, springing from eternal love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ell supply thy sons and daughters, and all fear of want remove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Who can faint, while such a river ever flows their thirst to assuage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Arial"/>
              </a:rPr>
              <a:t>Grace which like the Lord, the Giver, never fails from age to age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0:47Z</dcterms:created>
  <dc:creator>Phillip Sandilands</dc:creator>
  <dc:description/>
  <dc:language>en-US</dc:language>
  <cp:lastModifiedBy>Christopher Rowland</cp:lastModifiedBy>
  <dcterms:modified xsi:type="dcterms:W3CDTF">2008-06-01T20:09:33Z</dcterms:modified>
  <cp:revision>258</cp:revision>
  <dc:subject/>
  <dc:title>Slide 1</dc:title>
</cp:coreProperties>
</file>