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foolish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ser by far than man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eakn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er far than man 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m who glo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ast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in their own great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wise m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noble brethr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many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osen on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see your calling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the wisdom of mankind is to God but foolis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hose the foolis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wea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se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hose th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are despis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no flesh should gl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s of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all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because of greatn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are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now in Chri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nfound the 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