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the Lord Is K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heart, lift up your voice! Rejoi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 I say, rejoic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the Lord is King; your Lord and King ador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 and sing, and triumph evermore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heart, lift up your voice! Rejoi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 I say, rejoic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the Savior, reigns, the God of truth and l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had purg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ins, He took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at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your heart, lift up your voice! Rejoi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ain I say, rejoic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 cannot fail, He rules o’er ear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av’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eys of death and hell are to our Jesus giv’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2Z</dcterms:modified>
  <cp:revision>258</cp:revision>
  <dc:subject/>
  <dc:title>Slide 1</dc:title>
</cp:coreProperties>
</file>