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Chosen Gener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’re a chosen generation, royal priestho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thr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’re a bless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oly natio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’re a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ow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you may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rais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what’s plea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s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called you out of darkness to His glorious, marv’llous l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’re a chosen generation, royal priestho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thr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’re a bless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oly natio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’re a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ow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you may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raise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do what’s plea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s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called you out of darkness to His glorious, marv’llous l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ce you were not called a people in a world that’s gone astr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you’ve heed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reat call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ing forth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and w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had not receiv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ercy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 ab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you are the blessed receivers of His mercy and His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9Z</dcterms:modified>
  <cp:revision>258</cp:revision>
  <dc:subject/>
  <dc:title>Slide 1</dc:title>
</cp:coreProperties>
</file>