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96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Mountain of the Lor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to plowshares they shall beat their sword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to pruning hooks their spears shall be mad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shall not lift up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ir swords again.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will learn the ways of war no mor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h, let us go up to the mountain of the Lord, To the house of Jacob’s Go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will teach us His ways, we will walk in His paths, Let us go to the mountain of the Lor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nderneath the vine and fig tree, Ev’ry man shall sit in peace, unafraid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e Lord of hosts has spoken it, And forever we will walk in His nam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h, let us go up to the mountain of the Lord, To the house of Jacob’s Go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will teach us His ways, we will walk in His paths, Let us go to the mountain of the Lor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In the last days it shall come to pass That the mountain of the house of the Lord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be lifted o’er the other hills, And the nations will come and say: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h, let us go up to the mountain of the Lord, To the house of Jacob’s Go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will teach us His ways, we will walk in His paths, Let us go to the mountain of the Lor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t of Zion shall the law go forth, From Jerusalem the word of the Lord;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will judge the nations of the earth, And rebuke strong and distant land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h, let us go up to the mountain of the Lord, To the house of Jacob’s Go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will teach us His ways, we will walk in His paths, Let us go to the mountain of the Lor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27Z</dcterms:modified>
  <cp:revision>258</cp:revision>
  <dc:subject/>
  <dc:title>Slide 1</dc:title>
</cp:coreProperties>
</file>