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With Cheerful Vo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eople that 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do dwel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 Lord with cheerful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Him with joy, His praises tell; come ye before Him 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 the Lord is God indeed; without our aid He did us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His flock; He doth us feed, and for His sheep He doth us t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nter the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with prais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aily approach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ur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and bless His name alway, for it is seemly so to d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the Lord is ever good, His mercy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ruth at all times firmly stood, and shall from age to age end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0Z</dcterms:modified>
  <cp:revision>258</cp:revision>
  <dc:subject/>
  <dc:title>Slide 1</dc:title>
</cp:coreProperties>
</file>