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Song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o Him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His own people would not hear; they would not hear His voice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only wanted their own way, following their own hear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My people would obey, walking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My way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hould have soon delivered them, turned My hand against their foes!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 with a psalm; sing songs of praise to Him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lay on the timbrel and the harp, and make a joyful no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is a statute and a law God has ordained for u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appointed time to keep; this do on God’s most solemn feas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ow on the trumpet; sing a psalm; make joyful noise to G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delivered us from sin, saved us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gypt’s lan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cried to God in bondage there; God heard and answered u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underclouds He answered us: “Hear, O My people, hear My words!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8Z</dcterms:modified>
  <cp:revision>258</cp:revision>
  <dc:subject/>
  <dc:title>Slide 1</dc:title>
</cp:coreProperties>
</file>