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Unto the Etern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and nations heard and trembled; fear and anguish on them f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greatness of Your power You sent forth in wrath to que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led Your people over dry land through the sea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in Your mercy, You have triumphed gloriousl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 unto the Eternal; He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ed gloriousl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extended His right hand and cast the fo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my great salvation, You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ng in liber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God of my father, You h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Your people fre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 will chase them and overtake them, catch them and divide the spoil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id the foe, “My hand will destroy them”; but the foe drowned in the sea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Your blast the waters were gathered, columns rose and depths congea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haraoh’s horsemen and his chariots sank into the churning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