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Prayer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was faint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d to God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d hear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has been my dwelling place; a shelter from the f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ill I foreverm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me fore’er, and dai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y my vow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pray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from earth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end I c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d me to the Rock to rest that higher is than I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 have been a shelter and a for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the fo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me in Your dwelling place abid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has heard my vows and granted righteous heritag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are for those who trust in Him and fear His hol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God prolong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e king’s life; for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m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may sit before our God, enthroned in righteousn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6Z</dcterms:modified>
  <cp:revision>258</cp:revision>
  <dc:subject/>
  <dc:title>Slide 1</dc:title>
</cp:coreProperties>
</file>