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0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evermore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our God returns from heaven, then Zion shall be buil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come in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y; He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the destitut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prayers He will despise not; their groaning He will h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shall dw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afety, for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hall retur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all people then are gathered to serve the Lord their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declare His name in Zion, in Jerusal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kings shall see His glory, all nations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fame shall be declared then, He shall reign forevermo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prayer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Eternal; hide not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ce from m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cry and quickly answer, when my day of trouble comes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ike grass my heart is withered, my days lik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rass consume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, take not my life now, in the midst of my days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n owl in some poor wasteland, I mourn and cannot sleep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melancholy sparrow, like 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lican al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, Eternal, hear me, and answer speedil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not Thy f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e, Lord,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moan bitter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1Z</dcterms:modified>
  <cp:revision>258</cp:revision>
  <dc:subject/>
  <dc:title>Slide 1</dc:title>
</cp:coreProperties>
</file>