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Thou From Evi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thou from evi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what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pe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rsue it earnest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keeps the bon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righteous ma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one of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roken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il shall slay all unrighteous me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tes the p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desolate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God redeemeth the soul that’s His; none shall be desolate trusting Hi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thou from evi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what is go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pe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rsue it earnest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e just are the eyes of God; His ears are open unto their c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Eternal’s face is against those who are evil, doers of wro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uts remembrance off from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ts their remembrance from the ear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righteous men cry, God always hears, for He delivers them from fear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ar unto them of a broken heart, contrite of spirit, God saveth th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afflictions that we do have, troubles there be of righteous m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Eternal delivereth out from afflictions the righteous ma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4Z</dcterms:modified>
  <cp:revision>258</cp:revision>
  <dc:subject/>
  <dc:title>Slide 1</dc:title>
</cp:coreProperties>
</file>