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2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Most Perfect is th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Law of God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Most perfect is th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law of God, restoring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ose that stray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is testimony is most sure, proclaiming wisdom’s way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precepts of the Lord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re right; with joy they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ill the heart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’s commandments all are pure, and clearest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light impart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fear of God is undefiled and ever shall endure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statutes of the Lord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re truth and righteousness most pure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words which from my mouth proceed, the thoughts within my heart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ccept, O Lord, for Thou my Rock and my Redeemer art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2Z</dcterms:modified>
  <cp:revision>258</cp:revision>
  <dc:subject/>
  <dc:title>Slide 1</dc:title>
</cp:coreProperties>
</file>