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ach them of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sit i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home, when you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lk by the w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each them of judgmen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mercy and fai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y lie dow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sleep, when they ris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p each da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mit them to co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your arms to your own little on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’re blest from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one day pass by without showing your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become childlike to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converted, love God as the little ones do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come unto 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umble and trusting, believing are the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God’s children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irs to Hi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that da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mit them to co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your arms to your own little on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’re blest from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one day pass by without showing your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on’t forbid them, of such is the Kingdom of G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se are the words of our Savior and King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lifted them up in His arms, blessing the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ermit them to com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pen your arms to your own little on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uffer the childre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y’re blest from ab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one day pass by without showing your lo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8Z</dcterms:modified>
  <cp:revision>258</cp:revision>
  <dc:subject/>
  <dc:title>Slide 1</dc:title>
</cp:coreProperties>
</file>