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Sabbath D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engthened, we will go to do the Father’s wor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week is ru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seventh d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 seventh d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meet a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a song of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Father God on hig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eternal Frie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a song of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Father God on hig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eternal Fri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Sabbath d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 Sabbath d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ppy day of res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a song of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Father God on high, from whose h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bless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a song of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Father God on high, from whose h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bless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setting su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setting su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your hearts rejoi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ste the goodness of a kingdom yet t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to God your voi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ste the goodness of a kingdom yet t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to God your voi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rn the word of God, learn the way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 day is don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engthened, we will g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o the Father’s wor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week is ru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0Z</dcterms:modified>
  <cp:revision>258</cp:revision>
  <dc:subject/>
  <dc:title>Slide 1</dc:title>
</cp:coreProperties>
</file>