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hepherd Wi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upply My Need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re provisions of my God Attend me all my day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Thy house be my abode, And all my work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prais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would I find a settled rest, While others g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m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a stranger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r a guest, But like a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at ho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hepherd will supply my need; Eternal is His na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fresh 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akes me feed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side the living stream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brings my wand’ring spirit back, When I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sake His way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ds me, for Hi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ercy’s sake, In paths of truth and grac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walk through the shades of death Thy presence is my sta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ne word of Thy supporting breath Drives all m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ears aw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hand, in sight of a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, Doth still m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able sprea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cup with blessings overflows, Thine oil anoints my hea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