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5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Glory, Laud and Hono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e, before Thy passion, they sang their hymns of prais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e, now high exalted, our melody we rais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didst accep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praises; accep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praise we bring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in all good delightest, Thou good and gracious King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glory, laud and honor to Thee, Redeemer, King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whom the lips of children make loud hosannas ring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art the King of Isr’el, Thou David’s royal Son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in the Lord’s name comest, the King and blessed On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company of angels are praising Thee on high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mortal men and all things created make reply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people of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brews with psalms before Thee wen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praise and pray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anthems befo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e we presen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37Z</dcterms:modified>
  <cp:revision>258</cp:revision>
  <dc:subject/>
  <dc:title>Slide 1</dc:title>
</cp:coreProperties>
</file>