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3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fer Pra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o the wick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God says, “Why mention My command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y take My cov’nant on your lips, and cast My words behind?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lorifies M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brings the sacrif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prais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how salv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m who ord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 his way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My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’ll spea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Israel by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you I will testify, for God, your God, I a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owls are all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well-know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ountai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gh do yie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lso claim as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own the wi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asts of the fiel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joyful songs to God Most High; give thanks and offer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the day of trouble comes, I’ll hear and answer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nk you that I would eat of flesh, or ask for sacrific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rather unto 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God, give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fer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5Z</dcterms:modified>
  <cp:revision>258</cp:revision>
  <dc:subject/>
  <dc:title>Slide 1</dc:title>
</cp:coreProperties>
</file>