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65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Praise The Lord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He is Good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praise the Lord, you sons of men, For all His goodness shown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praise Him for the wondrous works To you He has made known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longing soul that turns to Him He fully satisfies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fills with good each hungering one That for His mercy cries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praise the Lord, for He is good, His mercies still endure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us let His ransomed testify, From all their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es secure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has redeemed His captive saints From adversaries’ hands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as gathered them and brought them back In peace from hostile lands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y wandered in the wilderness, By want and hunger pressed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 trouble then they cried to God, He saved their souls distressed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made the way before them plain, Himself became their guide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brought them to a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city strong Wherein they might abide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Phillip Sandilands</dc:creator>
  <dc:description/>
  <dc:language>en-US</dc:language>
  <cp:lastModifiedBy>Christopher Rowland</cp:lastModifiedBy>
  <dcterms:modified xsi:type="dcterms:W3CDTF">2008-06-01T20:09:21Z</dcterms:modified>
  <cp:revision>258</cp:revision>
  <dc:subject/>
  <dc:title>Slide 1</dc:title>
</cp:coreProperties>
</file>