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4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 Eterna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A Psalm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“I am the God who brought you out, out from the land of Egyp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, O Isr’el, open wide your mouth; I surely then will fill it.”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Israel would not heed God; they would have their own way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, if they only had obeyed, their God would have surely freed them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 Eternal with a psalm; sing to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of Jacob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aise the chorus, make a joyful noise; bring out the harp and timbrel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ow on the trumpet, sound the drum, on our solemn feast da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is is a statute and a law which God has ordained for Isr’el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 Eternal with a psalm; sing to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of Jacob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aise the chorus, make a joyful noise; bring out the harp and timbrel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ow on the trumpet, sound the drum, on our solemn feast da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is is a statute and a law which God has ordained for Isr’el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“Hear, O My peopl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 My voice; I will admonish Isr’e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shall have no other, foreign gods; I am the God who freed you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you were troubled you did call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delivered Isr’el.”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answer’d in the secret place; with thunder He did command them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8Z</dcterms:modified>
  <cp:revision>258</cp:revision>
  <dc:subject/>
  <dc:title>Slide 1</dc:title>
</cp:coreProperties>
</file>