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Me Thy 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doubts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ears aris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me Thy w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storm clou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 the ski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me Thy w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ine thru the clou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ain, thru sorr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il and p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ke Thou m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thway plai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me Thy wa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ng as my life shall last, teach me Thy w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-e’er my lot be cast, teach me Thy w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il the race is ru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il the journey’s don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il the crown is won, teach me Thy wa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me Thy 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me Thy w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uiding grace afford, teach me Thy w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lp me to walk aright, more by fai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ss by s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 with Thy true light, teach me Thy wa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I am sad at heart, teach me Thy w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earthly joys depart, teach me Thy way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ours of loneli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imes of sore distres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failure or succ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me Thy wa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1Z</dcterms:modified>
  <cp:revision>258</cp:revision>
  <dc:subject/>
  <dc:title>Slide 1</dc:title>
</cp:coreProperties>
</file>