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9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Upon the Lord (Continually Are Set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do Thou keep my soul, do Thou deliver m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t me never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ashamed becau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 trust in The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uprightness and truth keep me, who Thee atten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Redemption, Lord, to Israel from all his troubles sen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ine eyes upon the Lord continually are se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t is that shall bring forth my feet out of the ne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urn unto me Thy face, and to me mercy show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at I am desolate and am brought very low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’s grief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re increased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relieve me from distres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ee mine afflictio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pain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my sins forgiv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ou my foes, because they many ar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a cruel hatre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s which the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gainst me bear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4Z</dcterms:modified>
  <cp:revision>258</cp:revision>
  <dc:subject/>
  <dc:title>Slide 1</dc:title>
</cp:coreProperties>
</file>