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6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One Whom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 Sen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did his armies fall, and his 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rriors ceas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the world bowed down to bring God’s earth its peace. And H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shall contain none that will offe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Lord Messiah reigns, the One wh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 send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hall His people come to their land of Israe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ack from the nations’ pride, and back from where they fel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to His cov’nant law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is Word which makes them fre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rawn by Christ the Door thru which they’ll come to see That H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shall contain none that will offe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Lord Messiah reigns, the One wh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 send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of the earth rejoice! For our Lord will give you res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ations will then come near and seek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ght alon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rawn by the wat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lear that flow benea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hr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what His Wor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 done in a land of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ace and calm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His rule will spread thru ev’ry home and farm. And His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shall contain none that will offe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Lord Messiah reigns, the One whom the Father send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ar from the north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come and shine from east to wes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n shall the righteous rise, and the clouds will roll and fle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Mount they will come and ev’ry eye wi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 That His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shall contain none that will offe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our Lord Messiah reigns, the One whom the Father send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irds on the wi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me ride; let y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ies around you r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wn to the valley wide, to find the vanquished ki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8Z</dcterms:modified>
  <cp:revision>258</cp:revision>
  <dc:subject/>
  <dc:title>Slide 1</dc:title>
</cp:coreProperties>
</file>