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ts of the Fath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ealing in His wings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Sun of Righteousnes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stand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 nations turn unto His way unless He strike the lan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will turn the hearts of the fathers to their children, to God’s wa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turn the hearts of the children to their fathers in that d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member Moses’ law, take he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faithful servants pr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Elijah, I will send to you before that dreadful day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will turn the hearts of the fathers to their children, to God’s wa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turn the hearts of the children to their father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w children are a blessing too, the fruit of His reward;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days of youth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rejoice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e grateful to the Lord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will turn the hearts of the fathers to their children, to God’s way.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turn the hearts of the children to their fathers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7Z</dcterms:modified>
  <cp:revision>258</cp:revision>
  <dc:subject/>
  <dc:title>Slide 1</dc:title>
</cp:coreProperties>
</file>