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9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Christ Shall Co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out of heav’n an angel shall come down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His hand all evil shall be bou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ause of sin and death shall be made plai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to know, when Christ shall come a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ime is done, the dead shall rise again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be judged before the great white throne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Himself at last shall dwell with me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more, when Christ has come a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Christ shall come, all heav’n shall jo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o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, glory, pow’r to God belo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, the Lord Almighty reign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, the Christ has come agai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dding of the Lamb shall come at last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lest are they whom God calls to the Feas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epare the bride in linen white and clea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eet her Lord, when Christ shall come a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5Z</dcterms:modified>
  <cp:revision>258</cp:revision>
  <dc:subject/>
  <dc:title>Slide 1</dc:title>
</cp:coreProperties>
</file>