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9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 till the world is at pea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roubles have ceas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 till the beauty we s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whole wor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be, it won’t be lo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mb will peacefully dwell with the l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eopard will lie down with the ki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lf and the bear will no longer be wi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ttle child, it won’t be long n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 t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people join h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any a l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won’t be long now till the children will smile and will laugh all the whil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t won’t be lo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mb will peacefully dwell with the l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eopard will lie down with the ki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lf and the b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no longer be wild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Little child, it won’t be long n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5Z</dcterms:modified>
  <cp:revision>258</cp:revision>
  <dc:subject/>
  <dc:title>Slide 1</dc:title>
</cp:coreProperties>
</file>