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75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o the Hill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Lift My Ey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o the hills I lif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eyes, O whence shall come my aid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help is from the Lord alone, who heav’n and earth has mad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not let thy foot be moved, thy Guardian never sleep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watchful and unslumb’ring care His own He safely keep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faithful Keep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the Lord, thy Shelt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y Shad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‘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eath sun or moo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y day or night, thou shalt not be afrai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evil He will keep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e safe, for the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ill provid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going out, thy coming in, forever He will guid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23Z</dcterms:modified>
  <cp:revision>258</cp:revision>
  <dc:subject/>
  <dc:title>Slide 1</dc:title>
</cp:coreProperties>
</file>