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8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ine Eyes Ha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n the Glor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be swift my so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answer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jubilant my feet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God is marching o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! Glory! Hallelujah! Glory! Glory! Hallelujah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! Glory! Hallelujah! Our God is marching o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beauty of the autumn Christ was born across the sea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 glory in His bosom that transfigures y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He lives to make men holy, let us live to make men fre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God is marching o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! Glory! Hallelujah! Glory! Glory! Hallelujah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! Glory! Hallelujah! While God is marching o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ine eyes have se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glory of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ing of the L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trampling out the vintage where the grapes of wrath are stor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th loosed the fateful lightning of His terrible swift sw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truth is marching o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! Glory! Hallelujah! Glory! Glory! Hallelujah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! Glory! Hallelujah! His truth is marching o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sounded forth the trumpet that shall never sound retrea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sifting out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ts of men befo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judgment sea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4Z</dcterms:modified>
  <cp:revision>258</cp:revision>
  <dc:subject/>
  <dc:title>Slide 1</dc:title>
</cp:coreProperties>
</file>