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New Jerusalem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e Father’s throne, a river as cl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crystal flow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n its banks forever the tree of life shall grow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s leaves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l the nation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s fruit shall be for fo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re shall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more curse ther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all shall be for goo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need no su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day ther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moon to shine by nigh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glory of thei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and the Lamb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e its ligh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saints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ign forev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death they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fre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will dwell among His people for all eternit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the judgment years are ended and dea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cast awa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first heav’n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first earth in fi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pass awa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new heav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new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o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new Jerusale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dwell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Father at la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e with me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a bride dress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bridegro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ity of God shall b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r walls shall shi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jasp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gold shall be her street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r gates 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welve in numb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 angel at each on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each of her foundations is se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precious stone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9Z</dcterms:modified>
  <cp:revision>258</cp:revision>
  <dc:subject/>
  <dc:title>Slide 1</dc:title>
</cp:coreProperties>
</file>