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4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Not Afraid My Peop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return, with Me ye shall be alway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teadfast love, shall not depart from yo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the God of Abraham and Jacob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t your heads, redemption’s near, be ye not afrai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not afraid; be not afraid, My peopl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your God who watches over yo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do not sleep, and neither will I slumbe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, be not afraid of man, be ye not afrai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can man do to those whom I love so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can man do to those who fear My nam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the Lord, protecting you from dang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the mountains quake and ro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ye not afrai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6Z</dcterms:modified>
  <cp:revision>258</cp:revision>
  <dc:subject/>
  <dc:title>Slide 1</dc:title>
</cp:coreProperties>
</file>