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n and Children Everywhe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orm and flood and ocean’s roa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reakers crash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shor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terfalls that never sleep, towering mountai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nyon deep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ll ye forth His might, Lord of life and tru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right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ly, holy, to ou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glory b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n and children everywhere, with sweet music fill the air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ations, come, your voices raise to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hymns of prais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oin the angel song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worl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belong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ly, holy, to ou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glory b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ning, evening, bless His name, skies with crimson clouds aflam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ainbow arch, His covenant sign, countless stars by night that shin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His far domain, love is k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He doth reign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ly, holy, to our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glory b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2Z</dcterms:modified>
  <cp:revision>258</cp:revision>
  <dc:subject/>
  <dc:title>Slide 1</dc:title>
</cp:coreProperties>
</file>