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od and Uprigh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s soul shall dwell at ease, and his posterity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lourish still, and of the earth inheritors shall b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ose that fear Him is the secret of the Lor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knowledge of His covenant He will t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m affor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good and upright; the way He’ll sinners show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ek in judgmen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guide and mak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s paths to know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whole paths of the Lor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re truth and mercy sur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that keep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enant an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estimonies pur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w, for Thine own name’s sake, O Lord, I Thee entreat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pardon mine iniquity, for it is very grea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an is he that fears the Lord and doth Him serve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m shall He teach of His own way, the way that he should choos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3Z</dcterms:modified>
  <cp:revision>258</cp:revision>
  <dc:subject/>
  <dc:title>Slide 1</dc:title>
</cp:coreProperties>
</file>