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God the Fa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such as keep His covenant And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eadfast in His w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ose who still remember His commandments and ob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Fa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creatur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under His contro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roughout His vast dominion Bless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, O my sou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bless God the Father; all within me bless His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Father, and forget not all His mercies to procla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orgiveth thy transgressions, who all thy diseases heal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redeems thee from destruction, who with thee so kindly deal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s east from west is distant, He hath put away our s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pity of a father hath the Lord’s compassion be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it was without beginning, So it lasts without an e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ir children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 ever Shall His righteousness ext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1Z</dcterms:modified>
  <cp:revision>258</cp:revision>
  <dc:subject/>
  <dc:title>Slide 1</dc:title>
</cp:coreProperties>
</file>