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It is ever with me; It is my meditation all the day in my though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held back my feet from the ways of this world; Thou hast given me wisdom by Thy righteous command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It is ever with me; I have more understanding than the ancients of 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precepts I learn ev’ry false way to hate; I have more understanding for I dwell on Thy la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 I Thy law! It is ever with me; Thy commands make me wiser than my unfriendly fo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sweet are Thy words, more than honey is sweet! From Thy judgments, Eternal, let me never dep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3Z</dcterms:modified>
  <cp:revision>258</cp:revision>
  <dc:subject/>
  <dc:title>Slide 1</dc:title>
</cp:coreProperties>
</file>