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behold, O God, our shield, look on Thine anointed on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prayer, O Lord of hosts; O God of Jacob, now give 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tter one day in Thy house than a thousand days withou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tter one day in Thy house, O Lord of hosts, 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Lord of hosts, how my heart cr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for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my soul longs for Thy courts and for Thy tabernacles d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sparrow finds a home, as the swall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nds a nes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re those who dwell with Thee, O Lord of hosts, 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house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are bles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ever s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raise! Bl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ppy is the man whose strength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Lord his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ll go from strength to streng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appear b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Jacob, hear my prayer, O Lord of hosts, my King, my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8Z</dcterms:modified>
  <cp:revision>258</cp:revision>
  <dc:subject/>
  <dc:title>Slide 1</dc:title>
</cp:coreProperties>
</file>