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7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ward, Christian Soldier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not divid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ne body w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in hope and doctrine; one in chari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wa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ian soldiers, marching as to w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word of Jesus, going on bef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owns and thron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peris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s rise and wa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Church of Jesus constant will rem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ates of he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n never ‘gain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Church prevai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have Christ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wn promis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can never fai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wa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ian soldiers, marching as to w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word of Jesus, going on bef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ward, then, ye people! Join our happy thro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wa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ian soldiers! Marching as to w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nd with ou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voic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triumph so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, laud and honor, unto Christ the Ki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throug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untless ag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and angels s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wa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ian soldiers, marching as to w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word of Jesus, going on bef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word of Jesus, going on befo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, the royal Master, leads against the fo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ward into batt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His banners go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wa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ian soldiers, marching as to w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word of Jesus, going on bef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 mighty arm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ves the Church of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others, we are treading, where the saints have tr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2Z</dcterms:modified>
  <cp:revision>258</cp:revision>
  <dc:subject/>
  <dc:title>Slide 1</dc:title>
</cp:coreProperties>
</file>