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169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Church’s One Foundation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‘Mid toil and tribulation, and tumults of her war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he waits the consummation of peace forevermore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ill with the vision glorious her longing eyes are blest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God’s true Church victorious shall be the Church at rest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Church’s one foundation is Jesus Christ her Lord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he is His new creation by water and the Word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rom heav’n He cam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sought her to b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is holy bride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ith His own bloo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bought her, and for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r life He died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Elect from ev’ry nation, yet one o’er all the earth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r charter of salvation, one Lord, one faith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ne birth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is saints their watch are keeping; their cry goes up, “How long?”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soon the night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f weeping shall b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morn of song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Phillip Sandilands</dc:creator>
  <dc:description/>
  <dc:language>en-US</dc:language>
  <cp:lastModifiedBy>Christopher Rowland</cp:lastModifiedBy>
  <dcterms:modified xsi:type="dcterms:W3CDTF">2008-06-01T20:09:41Z</dcterms:modified>
  <cp:revision>258</cp:revision>
  <dc:subject/>
  <dc:title>Slide 1</dc:title>
</cp:coreProperties>
</file>