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Realms of Unseen Gl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splendor of the heavens when the sun shines forth in m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Kingdom of our Father shall the righteous shine as br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are the blessings the Creat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in st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are the pleasures to be ours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realm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seen glory, Jesus c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earth belo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 world of hat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uish the Creator’s love to sho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laid down a life eternal to assume the form of ma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 world of helpless sinners He reveal’d a wondrous pla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 Lamb is 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laughter, He was offer’d up to dea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ur sins He gladly carried, even to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nal brea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shall angels br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honor, and in praise their voices r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e saints shall kneel before Him when the earth receives its K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9Z</dcterms:modified>
  <cp:revision>258</cp:revision>
  <dc:subject/>
  <dc:title>Slide 1</dc:title>
</cp:coreProperties>
</file>