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20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re Blest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ho Are Forgiven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Day and night God’s hand was on me, and I groaned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ill I confessed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y sins I laid before Him; quickly He forgave them all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Ev’ry godly one shall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pray thus, while th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Lord may be found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So be glad all you upright;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ll you righteous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shout for joy!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re blest who are forgiven, to whom God imputes no sin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ho go to the Eternal, and confess to Him their sins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hose iniquities are covered, whom the Lord does instruct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Saying, “I will direct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you in the way that you should go.”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any sorrows have the wicked, who know not the way of God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e not as mules or horses which are held by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ridles strong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ut be glad in the Eternal, and rejoice all you just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Shout for joy all you upright, in whose spirit is no guile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4Z</dcterms:modified>
  <cp:revision>258</cp:revision>
  <dc:subject/>
  <dc:title>Slide 1</dc:title>
</cp:coreProperties>
</file>