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0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 Ye Theref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to All th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Christ was taken up into the heav’ns After He had spoken all these word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His Father did receive Him and place Him at His right h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disciples went ou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He sai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y preach’d the gospel ev’rywhe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worked with them and confirmed the word, By those signs which followed the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 ye therefo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to all the worl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each the gospe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ev’ry 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ach all natio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observe all th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Have commanded you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aptize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to the Father’s na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Holy Spirit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Son’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, I shall be with y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en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, I am with you alw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who have believ’d and are baptiz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saved whi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thers are condemn’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as for those wh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do believe these Signs shall surely follow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cast out demons in My name, They shall not be hurt by deadly thing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y shall l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nds upon the sick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sick shall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de we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8Z</dcterms:modified>
  <cp:revision>258</cp:revision>
  <dc:subject/>
  <dc:title>Slide 1</dc:title>
</cp:coreProperties>
</file>