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3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God Wh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de the Univer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living things 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He made, yes, ev’ry beast that breathe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birds that frolic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sky, the whal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sport at sea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cattle and all creeping things, all creatur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and small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n a man and woman with domin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them a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eventh day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de a time of re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God and man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we might ever mindful be of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pla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y did God labor mightily to make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we se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give a cradle to all life and grow His famil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Christ shall co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earth again,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urses shall be don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eautiful as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s made, it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 beco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God who made the universe and knows the stars by na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even still more beautiful new heav’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earth shall b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od at last shall dwell with men for all eternit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set the sun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on and all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lanets in their fra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made a billion galaxies and scattered them through spac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made a jewel and called it earth and gave it honored pla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ade the day, He made the night, He made the wind that blow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ade the sk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ade the land, He made the rain and snow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ade the mountains and the plains, He made the shining sea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blessed the earth with greenery and shaded it with tre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4Z</dcterms:modified>
  <cp:revision>258</cp:revision>
  <dc:subject/>
  <dc:title>Slide 1</dc:title>
</cp:coreProperties>
</file>