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arch Me, O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take my lif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ake it wholly Thi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 my whole heart with Your great love divi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all my will, my passion, self and pr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ad me, O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pray in me abi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arch me, 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now my heart to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y me, O Savio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 my though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pr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if there be s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cked way in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leanse me from ev’ry sin, and set me fre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praise You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cleansing 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s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ulfill Your Word and make me pure with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ll me with ze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once I liv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h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my desire to magnify Your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1Z</dcterms:modified>
  <cp:revision>258</cp:revision>
  <dc:subject/>
  <dc:title>Slide 1</dc:title>
</cp:coreProperties>
</file>