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 on Hig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, Hallelujah! Praise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high, sing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, hallelujah! Prais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Him, His faithfulness endures for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hallelujah, hallelujah! Praise the Lord Almigh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Hallelujah! Praise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high, sing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, hallelujah! Prais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ou nations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peoples, praise the Lord on hig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hallelujah, hallelujah! Praise the Lord Almigh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Hallelujah! Praise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high, sing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, hallelujah! Prais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His steadfast love toward us, prais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n hig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hallelujah, hallelujah! Praise the Lord Almigh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2Z</dcterms:modified>
  <cp:revision>258</cp:revision>
  <dc:subject/>
  <dc:title>Slide 1</dc:title>
</cp:coreProperties>
</file>