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eep God’s Sabbath Hol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celebrat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bbath d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it pictu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’s pla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 was not mad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Sabbath day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Sabbath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a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abbath hol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day of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lea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shadow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is t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governm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people of our loving God there remai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Sabbath res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 age of restoration, when 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bless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abbath hol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day of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lea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shadow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is t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governm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rested on the seventh day and created holy ti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day of hope and healing that was mad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of mank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abbath hol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day of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elea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shad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what is t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governm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Creat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s His peop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ho worshi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m through ti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made a Sabbath covenant and He mad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abbath a sig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et us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abbath hol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day of worship and relea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a shad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what is to co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governm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0Z</dcterms:modified>
  <cp:revision>258</cp:revision>
  <dc:subject/>
  <dc:title>Slide 1</dc:title>
</cp:coreProperties>
</file>