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of Gl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us wisdom; grant us courage, that we fail not man nor Thee, That we fail not man nor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gr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of glor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y people p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ow’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Thine ancient Church’s stor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her b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lorious flow’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us wisdo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us coura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facing of this hour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facing of this hou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! The hosts of evil ‘round us scorn Thy Christ, assail His way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ears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 have bound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ee our hearts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 and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us wisdo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us coura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iving of these day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iving of these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our feet on lofty places; gird our lives that they may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mored with all Christlike graces in the fight to set men f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