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78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e Beaut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the Earth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rd of all, to Thee we raise this our hymn of grateful prais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4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each perfect gif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Thine to ou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ace so freely giv’n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races, human and divine, flow’rs of earth and buds of heav’n;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rd of all, to Thee we raise this our hymn of grateful prais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y Church that evermore lifteth holy hands abov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f’ring up on ev’ry shore her pure sacrifice of lov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rd of all, to Thee we raise this our hymn of grateful prais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e beauty of the earth, for the glory of the skies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e love whic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rom our birth over and around us lies;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rd of all, to Thee we raise this our hymn of grateful prais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e beauty of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ach hour of the da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of the night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ll and vale, and tree and flow’r, sun and moon, and stars of light;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rd of all, to Thee we raise this our hymn of grateful prais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e joy of human love, brother, sister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arent, child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riends on earth and Thee above, for all gentle thoughts and mild;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43Z</dcterms:modified>
  <cp:revision>258</cp:revision>
  <dc:subject/>
  <dc:title>Slide 1</dc:title>
</cp:coreProperties>
</file>