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Thank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 Paren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thanks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arents who foll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o, with glad and trusting hearts, exalt You ev’ry 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thanks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arents who sh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word and de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itment to Your will and plan, and Your commandments he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thanks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parents who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knees in praye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pite of all life’s toil and care, find strength and wisdom the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blessed are the children who in their parents se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ender Father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and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will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