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Faith, One Lo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y is extended, With ev’ry color, quality and str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y loom, our diff’rences become on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easing tribute to Thee and Thy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nation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do we hai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any tongues we form our praise to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cross the seas, from mountain, isl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ep val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ons and daughters in one love ag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we strengthen one another in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binds in perfect harmon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out the earth, our Father, we revere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d by Thy S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we stand tru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faith, one lo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binds us firml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sons and daughters blessed in Thy vi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any lands we raise our eyes toward Th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voices joined as one great fami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ny lives are woven, fitly blend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apestry created by Thy hand. Within each th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1Z</dcterms:modified>
  <cp:revision>258</cp:revision>
  <dc:subject/>
  <dc:title>Slide 1</dc:title>
</cp:coreProperties>
</file>