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7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nations compa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about, compass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like be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 Eternal is my strength; in His n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ut them off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the gates of righteousness, where all the righteous enter 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not die, but I shall live and shall te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His wor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our God; He has answered 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y salvation has become, He the chief, the cornerst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y the builders was refused; He was rejected by His 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is the Lord who shows us light; blessed be the name of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ive thanks unto our God; blessed be His n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rcy shall always endure; and His kindness never fail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Israel confess to God, “His mercy always shall endure”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Aaron’s household now repeat, that His mercy never fail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called upon the Lord my God; in distress I crie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answered me and set me free; put your confidence in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the Eternal on my side, why should I fear what men can do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not in princes n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man; better far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ust in God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2Z</dcterms:modified>
  <cp:revision>258</cp:revision>
  <dc:subject/>
  <dc:title>Slide 1</dc:title>
</cp:coreProperties>
</file>