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Belongs to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make their idols with their hands, gods of silver, gods of gol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have mouths b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not speak, ears b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not hea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rael, trust in Go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who fear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bles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be y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and shield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belongs to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unto us, Eternal God, but unto Thy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unto Thee belongs, truth and mercy su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ho trust in the Lord, they who fear Him, small and grea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be their hel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ield. Pra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longs to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on His throne in heav’n; He has done what pleases H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why do the heathen say, “Where is now your God?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rael, trust in Go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be your hel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iel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use of Aaron, trust your God; help and shield is H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2Z</dcterms:modified>
  <cp:revision>258</cp:revision>
  <dc:subject/>
  <dc:title>Slide 1</dc:title>
</cp:coreProperties>
</file>