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! Praise ye the Lord! Praise from the heavens and praise in the heigh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m, ye angels, praise Him, ye hosts, for His Glory is higher than heaven abov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lifted high the horn of His people; He has exalted the praise of His saint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a people near unto God; they’re the Children of Israel, praise ye the Lor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from the heavens and praise in the heigh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m, ye angels, praise Him, ye hosts, O Praise Him, ye sun, moon and stars in the heigh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 of heavens, waters above, Praise the Eternal, let all praise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He commanded, they were creat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a decree fixed their bounds evermor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! Ye mammals and deeps, too, Fire, hail and windstorms fulfilling His wor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apors and snow, all hills, too, and mountains, all Cedars and fruit trees, let all praise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d beasts and cattle, winged birds and reptiles, Earth’s kings and judges, all people and chief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ng men and maidens, old men and children, O Praise ye the name of our God evermor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5Z</dcterms:modified>
  <cp:revision>258</cp:revision>
  <dc:subject/>
  <dc:title>Slide 1</dc:title>
</cp:coreProperties>
</file>