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srael Ou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Egypt We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at the presence of the Lord, earth Trembled so with f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at the presence Of the God of Jacob did appe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from the hard and stoney rock did Pools of water bri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His pow’r He Turned the flint into a water spr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sr’el out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gypt went and Did his dwelling chang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Jacob’s house went Out from those who were of language strang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made Judah th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be His own, and Isr’el His doma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the sight of them the Sea quickly fled, Jordan was driven back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rams the mountains and like lambs the Hills skipped to and fr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ea, what ails you, That you flee; O Jordan, that you turn back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ails you, mountains, that you skip, you Skip and leap like rams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ails you, hills, that You did leap, that you did leap like lamb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2Z</dcterms:modified>
  <cp:revision>258</cp:revision>
  <dc:subject/>
  <dc:title>Slide 1</dc:title>
</cp:coreProperties>
</file>