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Crow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 the Lord of Lords, to Him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ices 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 the Lord of peace and love, who over all doth reig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 be endless praise, for Thou for us hast di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Thou, O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endless days adored and magnifi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 with many crowns, the Lamb upon His thr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rk! How the heav’nly anthem drowns all music but its ow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, my soul, and sing of Him who died for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il Him as thy matchless King throu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etern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 the Lord of life; who triumphed o’er the gra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rose victorious to the strife for those He c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a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ies now we sing, who died and rose on hi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, eternal life to bring, and lives that death may di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5Z</dcterms:modified>
  <cp:revision>258</cp:revision>
  <dc:subject/>
  <dc:title>Slide 1</dc:title>
</cp:coreProperties>
</file>