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Glorif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glorif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King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glorify the Lamb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glorif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Lor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is the great I A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reig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ajesty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bow b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hr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worship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righteousn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worship Him al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Lord of heav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earth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Lord of all who li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the univers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praise to Him we gi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 to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King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 to the Lamb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 to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Lor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is the great I A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3Z</dcterms:modified>
  <cp:revision>258</cp:revision>
  <dc:subject/>
  <dc:title>Slide 1</dc:title>
</cp:coreProperties>
</file>