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od men shall flourish like the palm; strong as a cedar shall they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are planted in God’s house, and they shall grow within His cou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in age shall they bear fruit; rich and green they ever shal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is faithful evermore, our Rock and righteous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it is to thank the Lord, and to Thy name our praises s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proclaim Thy steadfast love each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clare Thy faithfulness by n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music of the lute, and with a solemn sound upon the ly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Thy works have made me gla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and of Thy deeds will I s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re Thy works, Eternal Lord; deep are Thy thoughts, O Thou Most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olish and senseless men will never know, nor will understand Thy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he wicked sprout as grass, and evildoers flourish for awhil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all be uprooted and destroyed, while Thou art evermore supre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9Z</dcterms:modified>
  <cp:revision>258</cp:revision>
  <dc:subject/>
  <dc:title>Slide 1</dc:title>
</cp:coreProperties>
</file>