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6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Praise Thee, O God, Our Redeem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voices united our praises we offe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e, great Eternal, glad anthems we rai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strong arm will guide us; our God is beside u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e, our great Redeemer, for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prais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praise Thee, O God, our Redeemer, Creato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grateful devotion our tribute we br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lay it before Thee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kneel and adore Th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bless Thy holy nam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ad praises we s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worship Thee, God of our fathers, we bless Th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life’s stor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empest our Guid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t Thou bee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perils o’ertake us, escape Thou wilt make u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ith Thy help, O Lord, our battles we w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40Z</dcterms:modified>
  <cp:revision>258</cp:revision>
  <dc:subject/>
  <dc:title>Slide 1</dc:title>
</cp:coreProperties>
</file>