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raise The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 who dwells in Zion, sing to Him and praise His nam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ell His deeds among the nations! Tell of all His glorious works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avenges all His people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ot forget their cr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Lord who dwell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Zion, sing to Him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 His nam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raise The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Eternal; I will show forth Thy great works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Most High God, Eternal, I will sing prai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hy nam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my foes shall turn and stumble; at Thy presenc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fall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judges rightly, and forever He will rul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Eternal lives forever; He destroys all wicked men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removes their name forever, and their mem’ry dies with them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He judges al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fairness; He wil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rule with equity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o know His nam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trust Him; He wil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t forsake His own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2Z</dcterms:modified>
  <cp:revision>258</cp:revision>
  <dc:subject/>
  <dc:title>Slide 1</dc:title>
</cp:coreProperties>
</file>