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ven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Youth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ness and my pow’r Thou will increase and far exte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all grief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side, to me will comfort se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also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truth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salter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oly One of Israel, with harp I’ll sing to Th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ven from my you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by Thee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been ta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therto I have declared the wonders Thou hast wrou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sake me no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am old and g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 proclaim Thy wondrous deeds to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’ry ag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erfect righteousness, O God, the heaven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ight excee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ho is like Thee, who has performed such mighty deed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who hast shown me trials sore and great adversiti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quicken me again and bring me from the depths of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7Z</dcterms:modified>
  <cp:revision>258</cp:revision>
  <dc:subject/>
  <dc:title>Slide 1</dc:title>
</cp:coreProperties>
</file>