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(Haverg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odness and mercy all my life shall surely follow m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God’s house forevermore my dwelling place shall b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’s my Shepherd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not want; He makes me down to li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pastures green; He leadeth me the quiet waters b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soul He doth restore again, and me to walk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oth make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the paths of righteousness, e’en for His own name’s sak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a, though I walk i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eath’s dark val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t will I fear none ill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with m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rod and staff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e comfort still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4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table Thou hast furnished in presence of my foe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d Thou dost with oil anoint, and my cup overflows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3Z</dcterms:modified>
  <cp:revision>258</cp:revision>
  <dc:subject/>
  <dc:title>Slide 1</dc:title>
</cp:coreProperties>
</file>