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I Love Thy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my heart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 obeys, I am kept from evil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law,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to guide, I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asi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eeter are Thy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, than all o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can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 I walk, Thy truth my light, hating falsehood, loving r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my heart pour forth with praise, let me sing of Thy great 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y word I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we, Oh, how I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law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eeter are Thy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, than all o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can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 I walk, Thy truth my light, hating falsehood, loving r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I love Thy law, O Lord, joy to me its truths aff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light I wisely go to battle every f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eeter are Thy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, than all o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can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 I walk, Thy truth my light, hating falsehood, loving r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commandments in my heart truth and wisdom can impar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y eyes Thy precepts show more than my teachers kn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weeter are Thy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me, than all o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can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fe I walk, Thy truth my light, hating falsehood, loving r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