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Ye Hallelujah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 human pow’r delights Him, no earthly pom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r pr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loves the meek wh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ear Him and in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confi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praise thy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Zion; His graciou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id confe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gives thee peace and plenty, His gifts thy children bles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tatutes and His judgments He mak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 know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m as to no others His grace He loves to sho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matchless grace and mercy your grateful praises br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give thanks forever,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 s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sing ye hallelujah! ‘Tis good our God to prai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s pleasant and becoming to Him our songs to 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uilds the walls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, He seeks her wandering so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inds their wound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omforts the brokenhearted on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ry hosts He numbers, He calls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by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reatness and His wisdom His wondrous works procla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eek He lifts to honor, He humbles sinful pr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utter His prais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and wi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5Z</dcterms:modified>
  <cp:revision>258</cp:revision>
  <dc:subject/>
  <dc:title>Slide 1</dc:title>
</cp:coreProperties>
</file>