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Is the Nation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For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Word of God the heav’ns were made, waters of the se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athered. In storage places laid the deeps, let all the earth revere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people stand in awe of Him, for He spoke and earth exist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e commanded it stood fast; by His word were the heav’ns creat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s will not be saved by armies great, nor a mighty man delivere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one is saved by his own strength, nor by some other pow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eyes of God are on the just, those who fear and worship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ait for Him, who hope for Him, those who trust in the God of Isr’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is the nation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for, and th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He has chosen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God looks down from heav’n above, and from there beholds all nations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is place abov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looks on all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sees their ev’ry doing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sees their sin, He sees their works; He beholds all of those who fear Him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you righteous in the Lord, rejoice, songs of praise befit the upright;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ay skillfully upon the strings, sing to Him a joyful new so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Word of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right and ju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works are tru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aithfu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lovingkindness fills the earth, for He loves righteousness and justi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4Z</dcterms:modified>
  <cp:revision>258</cp:revision>
  <dc:subject/>
  <dc:title>Slide 1</dc:title>
</cp:coreProperties>
</file>