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O my soul, let the angels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heaven He has fixed His throne and there He rules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vindicates the cause of all those who have been wrong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mercy is as high above as the heav’ns above the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O my soul, for His love always endur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loyalty is to our sons who keep all His comm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 man, he blossoms like a flow’r, and his days are like the gra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rom death the Lord redeems our life and He crowns us with His lov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O my soul, bless His holy sacred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get not all His benefits to those who fear His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forgives all our iniquities; our diseases He will he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estruction He redeems our life, and He crowns us with His lo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 Eternal, O my soul, let the heavens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mercy is as high above as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according to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sins has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dealt with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s far as east is from the west, He removes from us our sin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1Z</dcterms:modified>
  <cp:revision>258</cp:revision>
  <dc:subject/>
  <dc:title>Slide 1</dc:title>
</cp:coreProperties>
</file>