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bbath So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ghteous He will strengthen; they flour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c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in His house are planted and in His courts are kn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they bear abundantly, their fruit matures with ag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Rock and Anchor, our good and righteous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to thank Him and to God’s name sing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oclaim His love each morning, His faithfulness by n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music of the lute, play solemnly the ly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 we in His presence, before our God and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st High God we praise Him; we thank Him for His dee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others m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ect Him, His way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never s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ickedness springs up as gras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ourishes awhi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all shall be uprooted, while God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