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of Jerus’lem’s fall, when the children of Edom sai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with her, down unto the ground, even to the foundations!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daughter of Babylon, to thy ruin hast’ning 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he that rewardeth thee, just as thou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s hast d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aters of Babylon, there we wep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sat d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ng our harps on the willow trees; Zion, yet we remembered th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our captors required of us: “Sing a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Zion now!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 we sing the Eternal’s songs by the waters of Babylon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right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her skill, if Jerusalem I forge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fail to remember thee, let my tongue cleave unto my mou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e thought of Jerusalem when we sat near Zion’s stream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bove even our chief joy, we remembered Jerusal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4Z</dcterms:modified>
  <cp:revision>258</cp:revision>
  <dc:subject/>
  <dc:title>Slide 1</dc:title>
</cp:coreProperties>
</file>