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Ye Thank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, C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to The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, we ow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 whence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blessings fl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r these our souls shall raise grateful so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solemn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then, thankful people, come, raise the song of harvest ho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God’s own temple,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arvest ho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ye thankful people, come, raise the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arvest ho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s safely gathered in ere the winter storms beg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, our Mak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th provide for our wants to be suppli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God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wn temple,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arvest ho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bless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fie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sto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ardens yie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fruits in full supply, ripened ‘n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ummer sk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spr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bounteous hand, scatters o’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miling l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lib’r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utumn pou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r ri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flowing stor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0Z</dcterms:modified>
  <cp:revision>258</cp:revision>
  <dc:subject/>
  <dc:title>Slide 1</dc:title>
</cp:coreProperties>
</file>