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venant Peop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be mercifu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to their sin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ir unrighteousness I will remember no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s shall be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venant I’ll mak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Judah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use of Israe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ut My la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ir mind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write My living law upon their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be 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loving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be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 a peopl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put My la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their mind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write My living law upon their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will be to the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loving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y sh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to Me a peopl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all teach no more each man his fri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saying, “Know the Lord,” for they shall all know 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n from the least unto the grea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I will then forgive iniquit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3Z</dcterms:modified>
  <cp:revision>258</cp:revision>
  <dc:subject/>
  <dc:title>Slide 1</dc:title>
</cp:coreProperties>
</file>