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Ye Fir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Seek ye firs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of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righteousnes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es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added unto you. Allelu, allelui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shall not li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bread al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y ev’ry w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proceeds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uth of Go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, allelui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k, and it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iven unto you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, and ye shall f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ck, and the do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opened unto you. Allelu, alleluia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