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ays of O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this the gr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ssiah then, was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on of Man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stead of Judah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on God had s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humble lamb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in He set all people free, from death He rose triumphant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n ascend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heav’n to sit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right h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come again, Lord Jesus, but this time with pow’r and m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darkness overwhelm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, now co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bring Your light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come to us, Immanuel, oh, come and with Your people dwe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ule the wor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quity, with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ruth and r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days of old the prophets told Messiah would app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Jesse’s root a Branch would grow, God’s Kingdom it would b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mighty King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free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from captivit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ule the nations with a rod of iron and of f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no one knew unt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epherds hea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s s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baby born that autumn day was Israel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omised k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rew into His ministry, He taught with great authorit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ave His life to pay the price of mankind’s wander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6Z</dcterms:modified>
  <cp:revision>258</cp:revision>
  <dc:subject/>
  <dc:title>Slide 1</dc:title>
</cp:coreProperties>
</file>