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, Eternal, Hide Thou Awa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de Thou away? When will Thy wrath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rn like a fir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fore hast Thou made all men in vain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God, remember, fleeting is lif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man can live and never see death?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escape the pow’r of the grav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is the former love, O my God? Which unto David, Thou hast pledg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call,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lave is scorne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I do bear insul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l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with Thy foes mock Thy chosen ones; Blessed Eternal, always, am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8Z</dcterms:modified>
  <cp:revision>258</cp:revision>
  <dc:subject/>
  <dc:title>Slide 1</dc:title>
</cp:coreProperties>
</file>