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hepherd That Dost Israel Kee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God of hosts, how long wilt Thou, how long wilt Thou declar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moking wrath, and angry brow, against Thy people’s prayer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turn to us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divine, O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hosts, vouchsa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ou, Thy face on us to shine, for then we shall be sa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hepherd that dost Israel keep, give ear in time of nee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eadest like a flock of sheep Thy loved one, Joseph’s se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it’st between the cherubs bright, between their wings outsprea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ine forth, and from Thy cloud give light, and on our foes Thy drea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Ephraim’s and in Benjamin’s view and in Manasseh’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wake Thy strength, come and be seen to save us by Thy m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us again Thy grace divine, to us, O God, vouchsa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 Thou, Thy face on us to shine, for then we shall be sa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7Z</dcterms:modified>
  <cp:revision>258</cp:revision>
  <dc:subject/>
  <dc:title>Slide 1</dc:title>
</cp:coreProperties>
</file>