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Grea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freewill off’ring I to Thee will bring in sacrifi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of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raises will I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hath delivered me from all adversiti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desire mi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ye hath se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ine enem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me, O God, by Thy great name and judge me by Thy streng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 hea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y 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give ear to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angers are 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up against me r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pressors who care not for God but seek to take my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ghty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er is; l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fore I am b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taketh part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one, that do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uph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my watchful foes He will their ev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eds rep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for Thy truth’s 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them off and t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m all a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6Z</dcterms:modified>
  <cp:revision>258</cp:revision>
  <dc:subject/>
  <dc:title>Slide 1</dc:title>
</cp:coreProperties>
</file>