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Call On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shall them seiz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e tomb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ive they shall go d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ickedness is in their home; among them abound their sin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for me, I’ll c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God;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safety giv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hear me when I cry aloud, at morning, noon and n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Twas not a fo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d der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at I could end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ter thus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pride, else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ide secu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ou it was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 and guid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did as equals me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alked to God’s house side by side, and counsel blended swee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peech more smooth than butter was, yet in his heart was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soft than o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ords appear, yet sharp as dra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words were the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Lord Thou will in judgment sit and bring them down to w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e deep and darksome pit, in ruin lay them 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6Z</dcterms:modified>
  <cp:revision>258</cp:revision>
  <dc:subject/>
  <dc:title>Slide 1</dc:title>
</cp:coreProperties>
</file>