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5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urn, O God, and Save M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 God, rebuke m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not in anger, Nor in hot displeasure chastise me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 God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e gracious, Lord, and show me Your mercy; Heal me, O God, for I languish and ache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 God, how long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re You in helping?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urn, O God, and save me;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deliver my soul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or Your great love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sake of Your mercies; For in the grave there is no thought of You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 God, my bed is wet with weeping, And I faint with moaning becaus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f my foes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ut God has heard;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answered my prayer. My foes shall turn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shall be ashamed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1Z</dcterms:modified>
  <cp:revision>258</cp:revision>
  <dc:subject/>
  <dc:title>Slide 1</dc:title>
</cp:coreProperties>
</file>