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ust Be We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expect a bright tomorrow; all will be we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ith can sing through days of sorrow, a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s we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our Father’s love relying, and our ev’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ed supply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n living, or in dying, all must be we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e love of Christ our Savior, all will be we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ee and changeless is His favor, all, all is we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ecious is the blood that bought us, perfect is the grace that freed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ong the hand stretched out to shield 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ust be we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we pass through tribulation, all will be we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s is such a full salvation, all, all is we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ppy still in God confiding; fruitful, if in Christ abid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 through God’s Spirit guiding, all must be we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6Z</dcterms:modified>
  <cp:revision>258</cp:revision>
  <dc:subject/>
  <dc:title>Slide 1</dc:title>
</cp:coreProperties>
</file>