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That I May K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each me that I may know of 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 should g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o Thee I lift my soul, set me free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e I flee to hide me; teach me 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ill to d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, Eternal, a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; lead me b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pirit go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my soul from trouble and for Thy name’s sake quicke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to the land of refuge, and for Thy mercy’s sak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ut off all my fo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stroy them, they which do afflict my sou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, righteous God, for I a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ervant,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