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2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salm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when the day of judgment comes the wicked shall not stand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from God’s congregation then the sinner shall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e banne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od watches o’er His people, and guides all godly men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ut wicked ways shall perish, and not be seen again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h, blessed is the man who does not walk in wicked ways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o will not with the scoffers sit nor with the sinners stray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law of the Eternal shall be his true delight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meditates upon it forever day and night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be like a tre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at grows beside th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lowing stream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yields its fruit in season and whose leaf is always green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he does shall prosper, unlike the wicked men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are like the chaff that is scattered by the wind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11Z</dcterms:modified>
  <cp:revision>258</cp:revision>
  <dc:subject/>
  <dc:title>Slide 1</dc:title>
</cp:coreProperties>
</file>