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5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is Good 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Thy Prais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e good shall live before Thee, planted in Thy dwelling place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uitful trees and ever verdant, nourished by Thy boundless grac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y goodness to the righteous, God, Thy righteousness displ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, my Rock, my strength and refug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ust and true a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y way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is good to sing Thy praises and to thank Thee, O Most High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owing forth Thy lovingkindness when the morning lights the sk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is good when night is falling of Thy faithfulness to tell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ile with sweet, melodious praises songs of adoration swel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hast filled m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t with gladness through the works Thy hands have wrough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hast made m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fe victoriou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Thy works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ep Thy though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, O Lord on high exalted, reignest evermore in migh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y enemies shall perish, sin be banished from Thy sigh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9Z</dcterms:modified>
  <cp:revision>258</cp:revision>
  <dc:subject/>
  <dc:title>Slide 1</dc:title>
</cp:coreProperties>
</file>