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Bless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All Tim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bless the Lord at all times, And His praise shall fill my mou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praise His name together; magnify the Lord with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is the 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trusts Him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saint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ear the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ho seek Him shall lack nothing; taste and see that He is go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ildren, listen to instructors,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tell y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Fear the Lord.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eep your tongue from speaking evil and your lips from speaking guil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delivers from afflictions; He will hear our troubled cr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deems His faithful servants; seek the refuge of the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4Z</dcterms:modified>
  <cp:revision>258</cp:revision>
  <dc:subject/>
  <dc:title>Slide 1</dc:title>
</cp:coreProperties>
</file>