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, The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Co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great day of God, t’will be nei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 nor n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t eventi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shall be ligh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shall be one day to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from Zion shall living waters flow to the ea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the wes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our God Eternal shall be King; in that day shall there be one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, that day shall come, when all nations shall obe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of all the nations that are lef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Jerusalem shall go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even go there from year to year, and shall keep the Feast of Booth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shall be one God, the Eternal, who is King over all the earth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, the day will come, the day of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ur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bring all nations in that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Jerusale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take the city and share the spoil, in the very midst of the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our God Eternal shall go forth, and shall fight against our foe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great day of God, our Lord shall st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ear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Mount of Oliv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st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mount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leave in two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shall be a vall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mammoth siz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valley you shall fl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ur God Etern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King, and shall rule over all the earth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7Z</dcterms:modified>
  <cp:revision>258</cp:revision>
  <dc:subject/>
  <dc:title>Slide 1</dc:title>
</cp:coreProperties>
</file>