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and Let Us Worship Hi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and let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m, let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w down with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our kne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Maker, let us f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only is our God, and we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a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His pastu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shee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almighty ca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, let us in so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, our cheer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oices 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oyful shouts l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s the Rock of our salvation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His presence let us come with praise and thankful voi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sing psalms to Him with grace, and make a joyful no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, a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K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gods He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epths of earth are in His hand, the strength of hills is Hi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the spacious sea belongs, for He the same did mak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dry land also, from His hands, its for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first did tak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9Z</dcterms:modified>
  <cp:revision>258</cp:revision>
  <dc:subject/>
  <dc:title>Slide 1</dc:title>
</cp:coreProperties>
</file>