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3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rust in God and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Stand in Aw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“O that we might see some good!” many will say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Only look and smile on us, O righteous God!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God has given me more joy than they all know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e alone makes me to dwell safely in peace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ear and answer when I call, O righteous God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From distress You set me free; hear now my prayer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O how men love vanity; falsehood they seek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urning glory into shame, they are misled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O how long will sons of men love vanity?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O how long love vain intrigues, seek after lies?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rust in God and stand in awe, and cease to sin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Know that God has set apart all godly men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11Z</dcterms:modified>
  <cp:revision>258</cp:revision>
  <dc:subject/>
  <dc:title>Slide 1</dc:title>
</cp:coreProperties>
</file>