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26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, We Have Hear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 trust will I place in my bow to defend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r yet on my sword for my safety depen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God who ha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ved us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ut them to sham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boast all the day, ever praising His na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, we have heard and our fathers have taught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works which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ld in their da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hast wrough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nations were crushed and expelled by Thy han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ast out that Th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eople might dwe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ir lan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gained not the land by the edg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swor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own arm to them could no safety affor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by Thy right hand, O my Savior and King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mmand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word sh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eliverance bring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15Z</dcterms:modified>
  <cp:revision>258</cp:revision>
  <dc:subject/>
  <dc:title>Slide 1</dc:title>
</cp:coreProperties>
</file>