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Founded on the Mountai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Zion, blessed Zion, All our fountains are in thee.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founded on the mountains, God, thy Maker, loves thee w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chosen thee, most precious, He delights in thee to dw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own city, God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city Who can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y tell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lands and many peoples soon shall come the Lord to know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born again in Zion Shall the Lord’s salvation sh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lmighty, God Almighty Shall on Zion strength best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Lord shall count the natio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and daugh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s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endless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 And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 song shall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