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God’s Na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ent signs and wonders great, in the midst of Egypt’s la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ny nations did He strike, many mighty kings for Israe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Your name, Eternal God; great Your fame forevermore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oth endure to ev’ry age, and to generations yet to come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Hallelujah! Praise God’s Name! Praise His name of whom you serv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who stand within God’s house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s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in His court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, for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good; sing your praises to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s chosen for Himself, as His prized possession, Isra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great ab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gods; what He pleases that He doe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heav’n and on the earth, in the seas and depths of oceans wi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aises mists o’er all the earth; sends the lightning and the ra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Egypt He it was, struck the firstborn both of man and beas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4Z</dcterms:modified>
  <cp:revision>258</cp:revision>
  <dc:subject/>
  <dc:title>Slide 1</dc:title>
</cp:coreProperties>
</file>