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ke, My Hea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Then the blind 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ast shall see, then all the deaf shall hear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dumb shall sing, the lame man shall go leaping like a dee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the desert shall rejoice, blossom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he ros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waters shall burst forth and gladden ev’rything that grow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the dead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shall rise, God will awaken His ow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gether we shall reign on earth before Christ’s glorious thr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earth at last shall know, all of the nations shall se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 age of love and joy and light and peace and harmon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ke, my lut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h wake, my harp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awaken the dawn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 the great Eternal’s praises fr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s hour o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ke, my hear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h wake, my hear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arise and sing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clare the glory of His name to ev’ry living th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’ry land must h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rd, all of the world must kno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King will come and save His people from the time of wo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nowledge of His righteous ways over the earth shall b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deep and wide and wondrous as the waters of the sea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2Z</dcterms:modified>
  <cp:revision>258</cp:revision>
  <dc:subject/>
  <dc:title>Slide 1</dc:title>
</cp:coreProperties>
</file>