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7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This Shall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Kno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all aroun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you’ll show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, you’re My sister and My broth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ev’ry friend and ev’ry fo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 if you love one an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give my life for all mankind, and call you at this special ti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e work and feed the flock; build your house upon the Rock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all aroun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you’ll sho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, you’re My sister and My broth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know, ev’ry friend and ev’ry fo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 if you love one an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new commandment I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give, to magnif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way to li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ve each other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do, with the lo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ve given you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men know, all around the world you’ll show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, you’re My sister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y brothe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y this shall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n know, ev’ry friend and ev’ry fo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you are My disciples if you love one anoth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called to be lukewarm or cold, but zealous like the men of ol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 the will of God above; grow in His eternal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9Z</dcterms:modified>
  <cp:revision>258</cp:revision>
  <dc:subject/>
  <dc:title>Slide 1</dc:title>
</cp:coreProperties>
</file>