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7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give and Y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Forgiv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hould some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 against you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 see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nd he al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kind, have compassion, let go of your anger and be at peace agai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give and y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forgive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w mercy and t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will have too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good to al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your enemies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merciful to oth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your Father is to you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all our example of living should be a shining l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willing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der authorit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due respect to a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f you endure pain and suff’ring from unjust cause or overs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tand strong and live Christ’s example before us; trust Him who judges a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give and y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forgive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w mercy and t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will have too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good to al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your enemies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merciful to oth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your Father is to you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reat is the 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Fath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calls us His dear son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Christ comes again, we shall be like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ll see Him as He i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is is the 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shown u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Christ laid dow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life for al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we ought to lay down our lives for our brothers, to this end you are call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give and y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forgive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w mercy and t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will have too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good to al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your enemies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merciful to oth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your Father is to you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bringing your gif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to the alt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think of an offen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go and become one with your broth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bring your gift aga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2Z</dcterms:modified>
  <cp:revision>258</cp:revision>
  <dc:subject/>
  <dc:title>Slide 1</dc:title>
</cp:coreProperties>
</file>