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8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! Praise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unto the Eternal; let your hope be in Him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remains true forever; He gives justice to al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! Praise God! The Eternal shall reig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reign for all ages, our King and our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unto the Eternal; sing your praises to Him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ut your trust no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mortals, for in the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no help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! Praise God! The Eternal shall reig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reign for all ages, our King and our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unto the Eternal; give your praises to Him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t was who made heaven, earth and sea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ll thing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! Praise God! The Eternal shall reig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reign for all ages, our King and our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5Z</dcterms:modified>
  <cp:revision>258</cp:revision>
  <dc:subject/>
  <dc:title>Slide 1</dc:title>
</cp:coreProperties>
</file>