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3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re God’s Peop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re the Body of which the Lord is Hea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lled to obey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risen from the dea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s us be a family diverse yet truly o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et us give our gifts to God, and so shall His work on earth be don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re a temple, the Spirit’s dwelling plac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med in great weakness, a cup to hold God’s grac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die alone, for on its own, each ember loses fi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t joined in one the flame burns on to give warmth and light and to inspi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re God’s peopl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hosen of the Lor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d by His Spirit, established by His W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cornerstone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alone, and stro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Him we stan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et us live transparently, and walk heart to heart and hand in ha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re God’s loved ones, the Bride of Chri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Lor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we have known i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ve of God outpour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let us learn h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return the gift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ve once giv’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et us share each joy and care, and live with a zeal that pleases heav’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4Z</dcterms:modified>
  <cp:revision>258</cp:revision>
  <dc:subject/>
  <dc:title>Slide 1</dc:title>
</cp:coreProperties>
</file>