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Worshi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ster and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all k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deeme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ful Counselor, Comforter, Friend, Savior and Source of our life without 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Father, Creator. You are worthy, Savior, Sustain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worthy 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worshi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prai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ho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lor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all the glad songs we can s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all of the off’rings we br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Father, Creator. You are worthy, Savior, Sustain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and wonderful, Worth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rev’rence, worthy of fe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vo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bowing and bending of kne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all this and added to the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Father, Creator. You are worthy, Savior, Sustain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worthy, worthy 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th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4Z</dcterms:modified>
  <cp:revision>258</cp:revision>
  <dc:subject/>
  <dc:title>Slide 1</dc:title>
</cp:coreProperties>
</file>