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3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Worship the K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3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bountiful care, what tongue can recite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 breathes in the air; it shines in the light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t streams from the hills; it descends to the plain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sweetly distils in the dew and the rai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rail children of dus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feeble as frail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e do we trust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nor find Thee to fail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y mercies how tender, how firm to the end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Maker, Defender, Redeemer and Frien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worship the King, all glorious abov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gratefully sing His power and His lov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Shield and Defender, the Ancient of Day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avilioned in splendor, and girded with prais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49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tell of His might! O sing of His grac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garment is light, His canopy is spac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chariots of wrath the deep thunderclouds form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dark is His path on the wings of the storm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3Z</dcterms:modified>
  <cp:revision>258</cp:revision>
  <dc:subject/>
  <dc:title>Slide 1</dc:title>
</cp:coreProperties>
</file>