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it and Hope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For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ease from anger, cease from wrath, for all such shall be cut off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it and hope and loo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; be still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in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on the wicked shall not be, and his place shall not be fou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shall you delight yourself in peace abundant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vy not nor fret yourself over evil, lawless me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like grass so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de away and wi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flow’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in the Eternal God, do the right and loyal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will you dwell peacefully and tru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f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your confidence in God, and your way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commi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give you your desires, the petitions of your hear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st in the Eternal God, patiently up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wai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vy not nor fret yourself because of evil m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4Z</dcterms:modified>
  <cp:revision>258</cp:revision>
  <dc:subject/>
  <dc:title>Slide 1</dc:title>
</cp:coreProperties>
</file>