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Our Hel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Ages Pa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our help in ages past, our hope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rs to co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shelter from the stormy blast, and our eternal ho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the hills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der stood, or earth received her fr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everlasting Thou art God, to endl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rs the s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thousand ages in Thy sight are like a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ing g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ort as the watch that ends the night b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rising su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our help in ages past, our hope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rs to co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Thou our guard while troubles last, and our eternal ho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8Z</dcterms:modified>
  <cp:revision>258</cp:revision>
  <dc:subject/>
  <dc:title>Slide 1</dc:title>
</cp:coreProperties>
</file>