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Men W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ir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me crossed over the stormy seas; They s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nder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n the deep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men w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i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ll His goodness and all His work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fills the hungry soul, And they who are thirsty He satisfi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me are bound in darkness and chains, For their rebellion against the Most Hig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men would praise their God For all His goodness and all His lov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opened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isons wide, And saved men from death where they lay enslav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ir trouble they cried to Him, And with His word He delivered their live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men would praise their God For all He does for the sons of me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they would give thanks to Him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uts of joy and with songs of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2Z</dcterms:modified>
  <cp:revision>258</cp:revision>
  <dc:subject/>
  <dc:title>Slide 1</dc:title>
</cp:coreProperties>
</file>