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k on These Thing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 in the Lord always. I say,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gentle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seen by a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n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n’t worry at a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go to God in pray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ll Him your nee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ive Him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ind His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eace that transcends our ev’ry human thought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guard your he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uard your m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esus Chri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ever is tru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noble, always r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lovely, pu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worth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k on these thing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9Z</dcterms:modified>
  <cp:revision>258</cp:revision>
  <dc:subject/>
  <dc:title>Slide 1</dc:title>
</cp:coreProperties>
</file>