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less our God, you peoples, make His praises to be hea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nto Him your grateful thanks who has kept us safe in l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t allowed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et to slip, tho’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tested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’ we were captur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our foes; yet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et us fr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ill I come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I will p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w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ws which my lips have spoken, which I promised when distress’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who fear Him, come and hear, come you who worship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declare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done,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done for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to God and cried out, I extolled Him with high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I of sin been thinking, surely God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and praise God, all the earth sing forth His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indeed has heard my pray’r; blessed be God who hea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not checked my pray’r to Him, nor His own love to 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and honor give Him, sing homa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 now to God, “How dread Your works, how awesome are Your deed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great Your pow’r Your foes submit, all the earth worships You!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and see His great works, among men how dread His deed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urned the sea to dry land and the multitudes passed thr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all rejoice in Him, who by His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’er rul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eyes observe and nations watch; none shall exalt himself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6Z</dcterms:modified>
  <cp:revision>258</cp:revision>
  <dc:subject/>
  <dc:title>Slide 1</dc:title>
</cp:coreProperties>
</file>