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Declare His Work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Nation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Most High in Zion dwells; He will no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His peopl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y declare His great works, and He will no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get their cr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Rise, O Lord! Put them all in fear! All the nations that forget that Thou art Go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Judge them, Lord, in Thy sight; let the nations know they are but men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sing, O Most High, praises to Thy name with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whole heart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oclaim Thy wonders great; I will rejoice an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xult in The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foes fall at Thy sight, for Thou hast maintained my cause and my cry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judge from His throne; He shall remain forevermor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rule up rightly, judge the world in righteousness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oppressed who seek Him, He will to them a refuge b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ord will not forget those who put their trust and confidence in Him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 sing His praise; declare His works t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2Z</dcterms:modified>
  <cp:revision>258</cp:revision>
  <dc:subject/>
  <dc:title>Slide 1</dc:title>
</cp:coreProperties>
</file>