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ork Toge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night and da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torment, a d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o hard to know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med as though all hope was gone until the stone was rol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ork together, all things work for g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’s loving children called according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is life there’s sorrow and all too often p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these things shall fade away as we begin to reig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hundredfol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s us for things w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ive for Hi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reat joy and family and life that never end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ork together, all things work for g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’s loving children called accord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W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seph, son of Isr’el, was by his brothers s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seph, we remember, was Egypt’s greatest 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firstborn So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is by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’s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, none of life’s displeasures shou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er be compared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endless glory God has for us to sha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ork together, all things work for g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’s loving children called accord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s W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aused by jealous envy of what his dreams foretol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, far from hom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ervitud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prison’s drea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it all young Joseph was by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or 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work together, all things work for g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’s loving children called according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or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esus’ own disciple betrayed his Master’s l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irty coins of silver did buy Messiah’s blo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0Z</dcterms:modified>
  <cp:revision>258</cp:revision>
  <dc:subject/>
  <dc:title>Slide 1</dc:title>
</cp:coreProperties>
</file>