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w Jesus was praying with fervent desir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all who believe in His great name might be on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voices united, together we sta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t peace with the Heavenly Father and So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come into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knowledge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unity of Go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we grow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 follow the step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trod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Dwelling safely together 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body, one spiri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Lord and one faith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holy Creator God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 of a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baptism picturing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fe everm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pleasant fo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rethren to dwel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e hope and salvation, just as we are called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the dew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ad descended from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Zion long befor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ommanded a blessing of life forevermor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ing safely toge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gether in unity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David did tel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beautiful music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 breathtaking view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ike most precious ointment, like fresh morning dew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escended on the mountains of Zion long befor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od commanded a blessing of life forevermor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and how pleasant for brethren to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Dwelling safely togethe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sweet harmon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4Z</dcterms:modified>
  <cp:revision>258</cp:revision>
  <dc:subject/>
  <dc:title>Slide 1</dc:title>
</cp:coreProperties>
</file>