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arity rejoiceth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iniquit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rejoiceth in the truth; believes and bea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pes all th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dures all th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thinketh evi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ther there be prophecies, whether there be knowled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shall likew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ss a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charity remaine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 and hop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these ab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mong the three of these, charity is greate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speak with tongues of m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speak as angel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become as noth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become 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unding bra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a tinkling cymba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gift of prophecy, still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kn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mysteries, though I have all knowledg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become as noth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I give all I possess, let my body bur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have not char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I am as noth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9Z</dcterms:modified>
  <cp:revision>258</cp:revision>
  <dc:subject/>
  <dc:title>Slide 1</dc:title>
</cp:coreProperties>
</file>