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54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eator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ighty On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reator God, the Might y One Gave ruling power to Christ His So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by His word the sea was stilled, And by His pow’r the sick were heale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erciful God, enthroned above, Wellspring of bountiful, endless lov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ants us His favor 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free From just rewards for evil deed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, who lo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save, Promises victory o’er the grav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ets a course f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o see How the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might live eternall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mighty God, ou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hange o’ersee. Move ou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vain hearts to w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 should b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rough Your love and pow’r decree Our sonship in Your famil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8Z</dcterms:modified>
  <cp:revision>258</cp:revision>
  <dc:subject/>
  <dc:title>Slide 1</dc:title>
</cp:coreProperties>
</file>