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87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ymn of Unit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shall b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king His brid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He returneth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wife in white lin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Church for who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yearneth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we await the wedding great so let us strive to b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erusalem bedecked with gems of truth, love and light for all to se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ood and how pleasant when brethren dwell together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unity sharing the l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God foreve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oil to flow from head to toe down Aaron’s beard and rob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s the dew on holy hills, the Lord’s blessing evermore shall show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many the members to eac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pirit giveth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gifts for each function so that the body liveth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eye, or ear, or hand, ‘tis clearly noth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its own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with the Lord as head the members do what each cannot do alon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45Z</dcterms:modified>
  <cp:revision>258</cp:revision>
  <dc:subject/>
  <dc:title>Slide 1</dc:title>
</cp:coreProperties>
</file>