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57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ly, Mighty Majesty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, You did answer them; You forga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You aveng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, exalt the One Eternal God, who in Zi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most great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King and He maintains the right; He restoreth equit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and exalt the Eternal One! Hol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ighty Majesty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 reigne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gh above; He is mighty, He is great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between the cherubim He sits; let the people praise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King and He maintains the right; He restoreth equit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and exalt the Eternal One! Holy, Mighty Majesty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 One is God and King, and He spoke unto His priest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pillar of the cloud He spoke, unto them who kept His law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ses is among them, Aaron too; they extolled the Lord their Go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muel also called upon His name; God did hear, and answered them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0Z</dcterms:modified>
  <cp:revision>258</cp:revision>
  <dc:subject/>
  <dc:title>Slide 1</dc:title>
</cp:coreProperties>
</file>