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05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mbassadors For Chris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fellow worker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Him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t’s the day o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salvatio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 let us not receive the grace of God in vai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purity and with love, let us serve our Lor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Master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we press towar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Kingdom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us never be ashame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are therefor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hrist’s ambassadors and called to be God’s sons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declar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holy Kingdom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His will on ear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 don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 reconciled to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let us commi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hearts and mind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mbassador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Jesus Chris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Savior of all mankin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said He’s dwelling with us, and He’s walking with His people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promised He would guide and lead the path we’ve tro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f anyone is in Chris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n he is a new creatio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now He’s dwelling in us, and we are His sons and daughter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we are the holy temple of the everliving Go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are therefor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hrist’s ambassadors and called to be God’s sons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declare His holy Kingdom, that His will on earth be don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 reconciled to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let us commi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hearts and mind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mbassador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Jesus Chris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Savior of all mankin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old has passed away and all thing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re made new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ministry of our Christ, one of reconciliation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king peace wi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the Father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all our brethren, too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are therefore Christ’s ambassadors and called to be God’s sons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declar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holy Kingdom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His will o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arth be don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 reconciled to God and let us commit our hearts and mind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mbassador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Jesus Chris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Savior of all mankin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29Z</dcterms:modified>
  <cp:revision>258</cp:revision>
  <dc:subject/>
  <dc:title>Slide 1</dc:title>
</cp:coreProperties>
</file>