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y Your Bless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Upon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Father may Your blessing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pon us all eternall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s our Shepherd safely keep us in Your fold as humble sheep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ift Your countenance, we pray, upon us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s Sabbath da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ways cause Your face to shine on u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God and King divin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et our liv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way confess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xtend to 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graciousnes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cause Your Spiri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increase in u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we may live in peac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0Z</dcterms:modified>
  <cp:revision>258</cp:revision>
  <dc:subject/>
  <dc:title>Slide 1</dc:title>
</cp:coreProperties>
</file>