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See Us Throug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Christ comes, we’ll endure, living God’s way true and pu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, c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may, God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us throu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may shake, stars may fall, we will stand right through it al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last trumpet call, God will see us throug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ll know doubt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ears, life is fu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oil and tear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we’re told, have no cares, God will see us throu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the birds on the wing, see the lilies blossoming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loves all living things, God will see us through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ge of man shall gro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ld, love of man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wax col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fast we shall hold, God will see us throug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shall grow dark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rear, Jacob’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rouble shall app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nd, throug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years, God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us throug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1Z</dcterms:modified>
  <cp:revision>258</cp:revision>
  <dc:subject/>
  <dc:title>Slide 1</dc:title>
</cp:coreProperties>
</file>