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body Worshi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Worship God alway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remember our bless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o God an offering; show your thanks for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Worship God alway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remember how Jesus long ago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ught us how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y to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thing we should know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God alway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remember God’s special Holy Days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owing us the plan of God, teaching us His way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God alway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God alway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remember to keep the Sabbath d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a re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ink of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work a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pray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! Now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body worship! Worship God alway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remember the Lord’s unending c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aching out to love and help people everywhe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