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Our Refu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our refuge and our strength, in straits a present a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fore although the earth remove, we will not be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hills amidst the seas be cast; though waters roaring mak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oubled be; yea though the hills by swelling seas do shak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river is, whose streams make glad the c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place, wherein the Lord Most Hi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His abo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the midst of her doth dwell, and nothing shall her m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to her a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er will, and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 early, pr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5Z</dcterms:modified>
  <cp:revision>258</cp:revision>
  <dc:subject/>
  <dc:title>Slide 1</dc:title>
</cp:coreProperties>
</file>