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9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ity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 will come bringing honor and gl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healing water will make all things r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the Alph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Omega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His messa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ve us His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are all those who do His command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may en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will be no death, no more sorrow nor cry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e know God’s promise is faith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u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throne will be in the midst of the city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be the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living with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the Alph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Omega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His messa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ve us His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are all those who do His command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may en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a new Jerusalem’s coming from heav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’s coming from God down unto a new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be ther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dwell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God’s people will have a rebirt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the Alph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Omega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His messa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ve us His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are all those who do His commandmen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may en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will be no need of the sun nor the moon fo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lory of God will be giving us l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5Z</dcterms:modified>
  <cp:revision>258</cp:revision>
  <dc:subject/>
  <dc:title>Slide 1</dc:title>
</cp:coreProperties>
</file>