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rough the woods and forest glades I wande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ar the birds sing sweetly in the tre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look down from lofty mountain grandeu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ar the brook and feel the gentle breez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ings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or God to The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ings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or God to The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I think that God, His Son not spar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nt Him to di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carce can take it i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m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in awesome wonde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on the cro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burden gladly bear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led and died to take away my s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ings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or God to The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ings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or God to The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Christ shall come with shout of acclamati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returns, what joy shall fill my hear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shall b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umble adorati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proclaim, my God, how great Thou ar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all the works Thy hands have mad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ings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or God to The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ings my so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or God to The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ee the stars I hear the mighty thunde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pow’r throughout the universe display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ings my soul, my Savior God to The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ings my soul, my Savior God to The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Thou art! How great Thou ar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3Z</dcterms:modified>
  <cp:revision>258</cp:revision>
  <dc:subject/>
  <dc:title>Slide 1</dc:title>
</cp:coreProperties>
</file>