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,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Hea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Widely as His mercy flow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ail as summer’s flow’r we flourish; blows the wind and it is g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, while mortals rise and perish, God endures unchanging 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Praise the high Eternal On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, my soul, the King of heaven, to His feet thy tribute br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nsomed, healed, restored, forgiv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ike thee His praise should sing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Praise the everlasting K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for His grace and favor to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s in distr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still the same forever, slow to chi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wift to bl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 Glorious in His faithfulnes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like, He tends and spares us; well our feeble frame He know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hands He gently bears us, rescues us from all our fo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