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Is the Man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be a tree that grows, planted by the river’s side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in season yields its fruit; green its leaves abid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he does prospers well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wicked are not so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chaff before the wind, driven to and fro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Blest and happy is the man who does never walk astray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r with the ungodly men stands in sinners’ way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he does prospers well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wicked are not so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chaff before the wind, driven to and fro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e’er in scorner’s chair he sits, for he places his delight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’s law and meditates on it day and night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he does prospers well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wicked are not so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chaff before the wind, driven to and fro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1Z</dcterms:modified>
  <cp:revision>258</cp:revision>
  <dc:subject/>
  <dc:title>Slide 1</dc:title>
</cp:coreProperties>
</file>