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God Reign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will beat their spears to pruning hooks and make plowshares of their sword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ations will not take up swords again and will train for war no m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go up to the mountain of the Lord. There He will teach all nations of His way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ill walk in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aths of the Lord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God reign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latter days upon the earth Jesus Christ, our Lord shall reig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a temple shall be builded up and all people flow to i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go up to the mountain of the Lord. There He will teach all nations of His way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ill walk in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aths of the Lord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God reign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the law will go from Zion out, from Jerusalem the Wor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judge the people of the earth; many nations will obe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us go up to the mountain of the Lord. There He will teach all nations of His way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ill walk in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aths of the Lord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God reign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7Z</dcterms:modified>
  <cp:revision>258</cp:revision>
  <dc:subject/>
  <dc:title>Slide 1</dc:title>
</cp:coreProperties>
</file>