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Prais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 from princes and judge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inces and judges, servants and king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s na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one exalted, And His glory high abov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raised the strength of His people, Streng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His people, pra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His saint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ar, O Israel, sons and daughters, Hallelujah! Sing His prais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, sing praise from the heavens, Praise from the heavens, praise in the height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gels praise Him, heav’nly hosts sing, Sun and moon and stars give light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, from heaven of heavens, Heaven of heavens, waters abov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commanded and created, Set their bounds forevermor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 from earth and its creatures, Earth and its creatur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laced by desig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asts and cattle, birds and reptiles Blessed and nurtured kind by ki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 from mountains and hillsides, Mountains and hillsides formed by His wor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ng man, maiden, child and elder: Praise the Lord for He is go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5Z</dcterms:modified>
  <cp:revision>258</cp:revision>
  <dc:subject/>
  <dc:title>Slide 1</dc:title>
</cp:coreProperties>
</file>