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Shall Build the Hou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an is blest who fears the Lord, who lives and walks in all His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f his labor shall he eat, and he shall prosper all his d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ife shall be a fruitful vine; his children all like olive plan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e man who fears the Lord! To him His blessing will aff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shall build the house, the weary builders toil in vain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less the Lord the city shields, the guards maintain a useless watc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vain you rise ere morning break, and late your nightly vigils keep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read of anxious care partake; God gives to His beloved slee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children are the gift of God, and sons the blessing He commands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whom in youthful days bestowed, are like the shafts in warriors’ ha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ppy they whose quivers bear full store of arrows such as the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in the gate are free from fear, and bold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ce their enem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3Z</dcterms:modified>
  <cp:revision>258</cp:revision>
  <dc:subject/>
  <dc:title>Slide 1</dc:title>
</cp:coreProperties>
</file>