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Eterna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ver all He reigns supreme; all His judgments fill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Abrah’m, Isaac and Jacob, Glory to Him, sing prais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’s word is forever; He confirm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venan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thousand generations, to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Isra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gave to them a possession, for an everlasting dom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ir por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, Canaan’s l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to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Abrah’m, Isaac and Jacob, Glory to Him, sing prais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and praise the Eternal; call upon His sacred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s deeds be known among nations; sing to Him, sing songs of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of all His marvelous wonders, glory in His most holy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hearts of those rejoice, who seek God and fear His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m for ever and ever; Never forget His wonderful work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emember all of His judgments, all His deeds and wonder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remember, children of Isr’el, He made you His chosen on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our God now and forever! The Eternal, great is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1Z</dcterms:modified>
  <cp:revision>258</cp:revision>
  <dc:subject/>
  <dc:title>Slide 1</dc:title>
</cp:coreProperties>
</file>