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5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 Into th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 into the world, and be a faithful witnes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ive to live by ev’ry word ‘til we are perfect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give His Spirit; we shall be God’s son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 He shall be with us, forever to the e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 into the world, and preach to ev’ry nati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all people to obey what He has command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aptize His disciples; they shall be God’s son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 He shall be with us, forever to the e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 into the world, and live by His exampl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hall be a light to all, like a sparkling cit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ow as His disciples; you shall be God’s son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 He shall be with us, forever to the e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8Z</dcterms:modified>
  <cp:revision>258</cp:revision>
  <dc:subject/>
  <dc:title>Slide 1</dc:title>
</cp:coreProperties>
</file>