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Let Us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and let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bow down witha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our kne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r let us f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and He al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God, and w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 a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His pasture w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sheep, the floc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der His ca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let us sing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;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ev’ryon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joyful noise make to the Rock of our salvati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before His presence come with prais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ful voi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sing psalms to Him with grace, and make a joyful no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, a great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eat King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ods He 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pths of the earth are in His hand, the strength of hills is H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the spacious sea belongs, for He the same did mak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ry land als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hands its for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first did tak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9Z</dcterms:modified>
  <cp:revision>258</cp:revision>
  <dc:subject/>
  <dc:title>Slide 1</dc:title>
</cp:coreProperties>
</file>