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Trumpet Shall Soun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death, O grav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is your st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victory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ting of death is sin, defined by law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hen this mort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uts on immortalit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trumpet shall sound, rejoice foreverm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anks t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giveth us the victor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Christ the Lord, Eternal, Living 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ways abound and do the work He’s given m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loved of God and Christ, His chosen son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, I show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how you all a mystery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shall not sleep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we shall all be chang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just a whil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twinkling of an eye, you’ll se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trumpet shall sound, and we shall all be rais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anks to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giveth us the victor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Christ the Lord, Eternal, Living 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ways abound and d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rk He’s given m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loved of God and Christ, His chosen son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8Z</dcterms:modified>
  <cp:revision>258</cp:revision>
  <dc:subject/>
  <dc:title>Slide 1</dc:title>
</cp:coreProperties>
</file>