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6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One With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re Christ’s holy brethren, at 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our L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believe and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be asham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ur Captain has justified, made us at 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rue liberty can be proclaim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rejoice with our God through our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Chris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conciled by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th of His S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bought with a price, and we’re saved by His life; By His grac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re at peace and at on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entered the holy place once for our sin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opened a new, living w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we were still sinners, Christ died for us 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Holy of Holies, God’s heavenly thron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can now come before Him each d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rejoice with our God through our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Chris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conciled by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th of His S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bought with a price, and we’re saved by His life; By His grac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re at peace and at on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our High Priest has risen and liv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shown us His mercy and wonderful lo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faithful and ju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forgiv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rejoice with our God through our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Chris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conciled by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ath of His S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bought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price, and we’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d by His lif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His grace, we’re at peace and at on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0Z</dcterms:modified>
  <cp:revision>258</cp:revision>
  <dc:subject/>
  <dc:title>Slide 1</dc:title>
</cp:coreProperties>
</file>