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7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ght the Good Figh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ght the good fight, brethren; you soldi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Wor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rd on your sw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battle, the ver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d of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ospel of His peace will hold you steadfas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your way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salvation’s helmet protect your thoughts each d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n the war then, brethren; be strengthened in His m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on the Lord’s whole armor; against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e we figh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all take the shie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faith to quenc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iery dart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pray’r and supplication abounding in your heart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ght the good fight, brethren; be stro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Lor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ut on the Lord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le armor and fight against the fo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struggle not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lesh and blo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with the evil real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take up all your weapons and st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rm to the e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ight the good fight, brethren; do all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n to st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eapons of our warfare are from God’s mighty h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and therefore with the belt of truth secured around your wais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righteousness your breastplate fixed firml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its plac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1Z</dcterms:modified>
  <cp:revision>258</cp:revision>
  <dc:subject/>
  <dc:title>Slide 1</dc:title>
</cp:coreProperties>
</file>