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8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Thou Art My God and King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Thou art my God and King! I’ll Thee exalt, Thy praise proclaim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Thee bless, and gladly sing forever to Thy holy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our God most gracious is; in Him compassions also flow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mercy He is ric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bless, but unto ang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slow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all the Lord is very good; o’er all His works His mercy i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orks all praise to Thee afford; Thy saints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, Thy n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bles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Kingdom’s glory they shall show; they shall Thy power also te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that men’s sons His deeds may kno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gdom’s grace that doth exce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5Z</dcterms:modified>
  <cp:revision>258</cp:revision>
  <dc:subject/>
  <dc:title>Slide 1</dc:title>
</cp:coreProperties>
</file>