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ow Excellent Is Thy Nam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hast made him little less than the angels abov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 glory and with dignity; with honor crown’d his hea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ppointed lord of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y works, all things under his feet: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sheep and oxen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yea, and beast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n the field do stray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 How excellent in all the earth, Lord our Lor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s Thy nam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t Thy glor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ar advanced abov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ry fram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ouths of babes and infants, Lord, strength by Thee is ordained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Thy enemie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crushed; Thy vengefu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es restraine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 2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look up unto the heav’ns which Thine own fingers framed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moon an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stars, which wer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e ordaine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ay I, what i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an that Thou shoul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mindful of him?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r what, the son of man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ou so kin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should be?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1Z</dcterms:modified>
  <cp:revision>258</cp:revision>
  <dc:subject/>
  <dc:title>Slide 1</dc:title>
</cp:coreProperties>
</file>