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60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Is Joy In My Hear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h, the trumpet wi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ll out when Chri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come again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h, the trumpet wi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ll out when Chri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come again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 glorious shout from heaven He’ll descend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h, the trumpet will call when He come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ints and angels wi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when the Chri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come again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ints and angels wi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when the Chri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come again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 to our Lord Omnipotent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ints and angels will sing when He come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’ll be peace in the whole world when Christ will come again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’ll be peace in the whole world when Christ shall come again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is joy in m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t knowing Chri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come again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a thousand years, then God shall dwell with men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’ll be peace in the world when He come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is joy in m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t knowing Chri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come again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is joy in m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t knowing Chri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come again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rule the earth with blessings for all men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re’s joy, ye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’s joy in my hear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is joy in m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t knowing Chri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come again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rule the earth with blessings for all men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re’s joy, ye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’s joy in my hear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out the news to all nations that Christ will come again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out the news to all nations that Christ will come again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world must know man’s time is at an en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out the news, shout the news, shout the new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9Z</dcterms:modified>
  <cp:revision>258</cp:revision>
  <dc:subject/>
  <dc:title>Slide 1</dc:title>
</cp:coreProperties>
</file>