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Mess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us join together!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the song be hear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us all be messengers for God’s redeeming W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let us hear His message, He sent it from ab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gave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for us so all c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God’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ll have one foundation: the prophets and the la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varied gifts we offer to Christ the Lord of a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ent us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message, He sen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from ab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gave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for us so all c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w God’s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now are called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Him, the purpose that He c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ive us life eternal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praise His holy na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touch the liv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thers with God’s inspiring grac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mankind and nations will know God’s warm embr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4Z</dcterms:modified>
  <cp:revision>258</cp:revision>
  <dc:subject/>
  <dc:title>Slide 1</dc:title>
</cp:coreProperties>
</file>