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4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is My Shepher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Montgom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 harm can befall with my Comforter near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 harm can befall with my Comforter near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midst of affliction my table is sprea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ith blessings unmeasured my cup runneth o’er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erfume and oil Thou anointest my hea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h, what can I ask of Thy providence more?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h, what can I ask of Thy providence more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surely Thy goodness and mercy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Shall follow my steps all the days of my life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follow my steps all the days of my life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is my Shepherd, no want shall I know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in Thy house forevermore dwell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in Thy house forevermore dwell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 feed in green pastures, safefolded I rest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leadeth my soul where the still waters flow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Restores me when wand’ring, redeems when oppresse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Restores me when wand’ring, redeems when oppressed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the valley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adow of death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 stray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ince Thou art my Guardian no evil I fear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y rod shall defend me, Thy staff be my stay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3Z</dcterms:modified>
  <cp:revision>258</cp:revision>
  <dc:subject/>
  <dc:title>Slide 1</dc:title>
</cp:coreProperties>
</file>