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Hope in Your Merc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hope in Your mercy, We hope in Your w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take pleasure in all those who fear You, In those who hope in the L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eye is upon us. You strengthen the hear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made glad by the hope of salvation, Which sets the faithful apar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sorrows surround us, When evil is ne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rejoice in the hope of Your glory, And wait until You app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1Z</dcterms:modified>
  <cp:revision>258</cp:revision>
  <dc:subject/>
  <dc:title>Slide 1</dc:title>
</cp:coreProperties>
</file>