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30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od Be the Glo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perfect redempt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purchase of blood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ev’ry believer the promise of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vilest offender who truly repents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at moment from Jesus a pardon is sent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earth h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v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people rej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 to the Father through Jesus the So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ive Him the glory; great things He hath don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things He hath taught us; great thing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 hath don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reat our rejoicing through Jesus the Son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o God be the glory; great things He hath don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But purer and higher and greater will b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ur wonder, the vict’ry when Jesus we se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earth h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v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people rej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 to the Father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Jesus the Son,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nd give Him the glory; great things He hath done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o loved He the world that He gave us His So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yielded His life, an atonement for si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opened the lifegate that all may go in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horus: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earth hear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is v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rd;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e people rejoice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 to the Father through Jesus the Son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give Him the glory; great things He hath don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3Z</dcterms:modified>
  <cp:revision>258</cp:revision>
  <dc:subject/>
  <dc:title>Slide 1</dc:title>
</cp:coreProperties>
</file>