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Who Dw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ow the Ski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praise Him, O praise Him, Alleluia! Alleluia! Allelui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ll who dwell below the skies Let our Creator’s praise ar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 Let our Redeemer’s name be sung Through ev’ry land, in ev’ry tongu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praise Him, O praise Him, Alleluia! Alleluia! Allelui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ev’ry land begin the song, To ev’ry land the strains belo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 In cheerful sound all voices raise And fill the world with joyful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praise Him, O praise Him, Alleluia! Alleluia! Allelui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are Thy mercies, Lord; Eternal truth attends Thy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 Thy praise shall sound from shore to shore, Till suns shall rise and set no 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7Z</dcterms:modified>
  <cp:revision>258</cp:revision>
  <dc:subject/>
  <dc:title>Slide 1</dc:title>
</cp:coreProperties>
</file>