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I will praise Thee with my whole hear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Thy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all the go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bow t’ward Thy holy place, Praising Thy name for Thy kind love so tru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than Thy name Thy Word is enlarged; And when I cried in that day Thou didst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trengthened me with Thy strength, O Lord; Kings of the earth will then hear, praising Th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s, they shall hear, O Lord, of Thy ways; Then shall they sing for Thy glory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God is high the poor He respects; But strikes the proud down from His sov’reign he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n the midst of trouble I walk, Thou wilt preserve with Thy right hand my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ilt fulfill Thy purpose for me; Thy steadfast lov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dur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