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Thy Na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ints in Thy splendor shall give The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clare Thy greatness, Thy wondrous works procla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Kingdom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ower in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igneth over me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the nations, ev’ry angel, bless Thy holy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name I bless, Lord, my King, for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all ag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nations Thee ad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lone art holy, Thy goodness pou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th f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ou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King forev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Thy n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extol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 and King ad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less Thy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from 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just and tru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ays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King of ev’ry ag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just and tru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ays, for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Thy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shall not fear Thee and glorify Thy na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orship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through t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’ry ag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mighty dee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judgments in righteousness reveal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mercy lasts forevermore, we glorify Thee,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4Z</dcterms:modified>
  <cp:revision>258</cp:revision>
  <dc:subject/>
  <dc:title>Slide 1</dc:title>
</cp:coreProperties>
</file>