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55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So Loved the Worl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so loved the world that He sent His only Son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t whosoever believeth in Him will have life forevermor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so loved th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orld that He gav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Bread of Life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t whosoever partakes of His Life is sustained forevermor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so loved th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orld that He drew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us to the Vine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t whosoever abideth in Him will bear fruit forevermor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so loved the world that He glorified His Son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t whosoever believeth in Him will be one forevermor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38Z</dcterms:modified>
  <cp:revision>258</cp:revision>
  <dc:subject/>
  <dc:title>Slide 1</dc:title>
</cp:coreProperties>
</file>