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Calling Childr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calling childr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royal fam’l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ring in His blessings, living in His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Your children wiser, make Your children pure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us like our Father, living in His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us live more simply, teach us to teach other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us come out of this world, living in Your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can live forever, helping all God’s childre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ilding in His Kingdom, living in His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7Z</dcterms:modified>
  <cp:revision>258</cp:revision>
  <dc:subject/>
  <dc:title>Slide 1</dc:title>
</cp:coreProperties>
</file>