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ve The Lord Your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, O hear, O Israel, you shall be instructed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keep His laws within your heart and be faithful to teach your childre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peak them by night or in the day, whether at home or on your wa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, hear and heed, O Israel, to keep the decrees He gives you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, O hear, O Israel, you shall be instructed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know the Lord Himself is God, and beside Him there is no othe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ll your heart and all your soul, with all your strength do love the Lor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, hear and heed, O Israel, to keep the decrees He gives you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, O hear, O Israel, you shall be instructed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your God commands His wor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His blessings m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upon you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ind as a sign upon your hand; frontlets between your eyes they b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not forget the Lord your God and keep the decrees He gives you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6Z</dcterms:modified>
  <cp:revision>258</cp:revision>
  <dc:subject/>
  <dc:title>Slide 1</dc:title>
</cp:coreProperties>
</file>