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0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Speaks to U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when this place has been prepared for you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will return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Me you shall be too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 that where I am you may also b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 that where I am you may also b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speaks to us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y His great pow’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’re le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not your heart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come disquiete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 trust in Go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lieve and trust in M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 trust in Go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lieve and trust in M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God’s vast realm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re many office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re it not so, I surely would have sai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I must go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 place for you prepar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I must go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 place for you prepar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28Z</dcterms:modified>
  <cp:revision>258</cp:revision>
  <dc:subject/>
  <dc:title>Slide 1</dc:title>
</cp:coreProperties>
</file>