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3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’s My Shepher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Crimo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Goodness and mercy all my life Shall surely follow me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God’s house Forevermore my dwelling place shall be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’s my Shepherd;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not want. He makes me down to lie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in pastures green;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 leadeth m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quiet waters by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y soul He doth restore again, And me to walk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doth make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ithin the paths Of righteousness, e’en for His own name’s sake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Yea, though I walk in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death’s dark vale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Yet will I fear none ill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u art with Me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y rod and staff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e comfort still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4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y table Thou hast furnished In presence of my foes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y head Thou dost With oil anoint, and my cup overflows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3Z</dcterms:modified>
  <cp:revision>258</cp:revision>
  <dc:subject/>
  <dc:title>Slide 1</dc:title>
</cp:coreProperties>
</file>