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How Excellent In All the Earth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r man a little lower than the angels hast Thou made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placed a crown of glory and of honor on his head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ppointed lord of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y works; beneath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im all things be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ll flocks and herds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ll beasts and birds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ll fishes of the sea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 1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ow excellent in all the earth, Eternal, is Thy name!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ho hast Thy glory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ar advanced abov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starry frame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rom mouths of infants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of babes Thou hast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 strength ordained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at adversaries should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e stilled and vengeful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es restrained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 2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hen I look up unto the heav’ns which Thine own fingers framed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 moon, and to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stars, which wer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y Thee ordained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n say I, “What is man, that he remembered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is by Thee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r what the son of man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at Thou so kind to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im should be?”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2Z</dcterms:modified>
  <cp:revision>258</cp:revision>
  <dc:subject/>
  <dc:title>Slide 1</dc:title>
</cp:coreProperties>
</file>