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Almigh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, who with marvelous wisdom hath made the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ecked thee with health, and with loving hand guided and stayed the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oft in grief hath not He brought thee relief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preading His wings for to shade the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, O let all that is in me adore Him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at hath life and breath, come now, with praises before Him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Amen sound from His people agai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adly for aye we adore Hi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, the Almighty, the King of creati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my soul, praise Him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He is thy health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alvati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ll ye who hear, now to His temple draw near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Join me in glad adoration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ye the Lor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o’er all things so wondrously reignet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helters thee under His wings, yea, so gently sustaineth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st thou not seen how thy desires e’er have been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nted in what He ordaineth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5Z</dcterms:modified>
  <cp:revision>258</cp:revision>
  <dc:subject/>
  <dc:title>Slide 1</dc:title>
</cp:coreProperties>
</file>