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Eternal Reign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Eternal reigns! Let us rejoice! Let all the multitudes of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gla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rk clouds surround Him and fire goes before; Like wax the mountains mel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retur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lightnings b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arth; men see and shake! His high authority heavens proclaim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ose who ido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rve shall be ashamed. Judah rejoices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Zion is gla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is far above all other gods! He is exalted above all the eart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preserve His saints, those who love Him; Rejoice you righteous and give thanks to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9Z</dcterms:modified>
  <cp:revision>258</cp:revision>
  <dc:subject/>
  <dc:title>Slide 1</dc:title>
</cp:coreProperties>
</file>