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Up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the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up and b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 you peopl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His choi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up and bless the Lord your God with heart and soul and voi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high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praise; above all blessing hi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ould not f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nam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ud and magnif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our streng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ng, His love salvation bring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be His plan of love proclaimed and praise our God and Ki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up and b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 the L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God ad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up and bles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lorious name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nd 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6Z</dcterms:modified>
  <cp:revision>258</cp:revision>
  <dc:subject/>
  <dc:title>Slide 1</dc:title>
</cp:coreProperties>
</file>