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2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Is the Lo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Worship the Lord, present yourself to Him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il the Lamb who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light; pay homage to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ok within the city, there shall be no strif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nter, you faithful, known from the Book of Lif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Great is the Lord, and greatly to be praised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city of our God, upon His holy hil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Zion is God’s city; peace is in the la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rules the nations; His kingdom is at han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us rejoice! Our King has come to reig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judge with righteousness, the Faithful One and Tru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y, Alleluia unto Christ our King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hold our Savior! Of His great pow’r we sing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2Z</dcterms:modified>
  <cp:revision>258</cp:revision>
  <dc:subject/>
  <dc:title>Slide 1</dc:title>
</cp:coreProperties>
</file>