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5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Migh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not a plant or flow’r below, but makes Thy glories know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ouds arise and tempests blow, by order from Thy thron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all that borrow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rom Thee is ev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ca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’rywhere that man can be, Thou, God, art present the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mighty pow’r of God, that made the mountains r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pread the flowing seas abroad, and built the lofty ski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wisdom that ordained the sun to rule the day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shines full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mand, and all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 obe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goodness of the Lord, that filled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with fo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formed the creatures with His word, and then proclaimed them goo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ow Thy wonders are displayed, where-e’er I turn my eye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survey the ground I tread or gaze upon the sky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6Z</dcterms:modified>
  <cp:revision>258</cp:revision>
  <dc:subject/>
  <dc:title>Slide 1</dc:title>
</cp:coreProperties>
</file>