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66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Be At On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t one with God, at one with God! Rejoice! Rejoice, be at one with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proclaim that holy time When all God’s servants shall rejoic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declare that future day When mankind’s foe will be led away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t one with God, at one with God! Rejoice! Rejoice, be at one with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will reveal the wicked one And chain him for a thousand year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will bring for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glorious rest,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e world wi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now peace at last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t one with God, at one with God! Rejoice! Rejoice, be at one with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only see it dimly now, But from God’s Word we learn His pla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 more deception, no more fear! God speed that day for ev’ry man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40Z</dcterms:modified>
  <cp:revision>258</cp:revision>
  <dc:subject/>
  <dc:title>Slide 1</dc:title>
</cp:coreProperties>
</file>