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My Salv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dness and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 to ou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ward ev’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for his work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my rock, my salvation, my hope; My soul in silence waits for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fort; I shall not be removed; He is my refuge, my high tower of streng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will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pleasure in s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plot and threat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fe of the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in men are they, delighting in craft; Their lips they bless with, but they curse inward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w men or high, both are less than a breath; Trust and rely not on extortion and 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cue shall come from my God alone, And I shall never be greatly rem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, O my soul, wait in silence for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ope and refuge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God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my Rock, my salvation and strength; With God alone shall my deliverance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