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7 </a:t>
            </a:r>
            <a:br>
              <a:rPr sz="3200"/>
            </a:br>
            <a:r>
              <a:rPr b="1" lang="nn-NO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Forsake Me No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our great Creator, Thy justice reaches heave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who hast shown me many trials, Thou shalt give me lif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ce 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lips will shout for joy, O God, when I sing songs of praise to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oly One who hast redeemed me, O God, forsake me no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my hope and refuge, Thou art my Rock and fortr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incline Thine ear to me; save me from the unjust ma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my help and trust, O Lord; my praise shall always be to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mouth is filled with praise and glory; O God, forsake me no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be not far from me! O God, make haste to help 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hope and praise Thee more and more; I will tell of Thy great work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when I’m old forsake me not; my enemies again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pla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ay, “His God will not protect him;” O God, forsake me no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7Z</dcterms:modified>
  <cp:revision>258</cp:revision>
  <dc:subject/>
  <dc:title>Slide 1</dc:title>
</cp:coreProperties>
</file>