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Lovingkindness,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y gracious presence, Lord, O cast me not aw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Holy Spirit take not from me I pr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y which Thy salvation brings again to me rest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y Spirit fr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Thou keep me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crifice dost Th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want, else would I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it The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offering shalt Thou not delighted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 broken spirit is to God a sacrific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 brok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trite hear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wilt not desp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In Thy lovingkindness, Lord, be merciful to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compassion great blot out all iniquit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sh me thoroughly from sin, from all guilt cleanse Thou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ransgressions I confess; sins I ever s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Gainst Thee on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I sinned, done evil in Thy s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ou speak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be just, and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dging r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iniquities blot ou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in hid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y vie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me a clean heart make, spirit right rene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6Z</dcterms:modified>
  <cp:revision>258</cp:revision>
  <dc:subject/>
  <dc:title>Slide 1</dc:title>
</cp:coreProperties>
</file>