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0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of Israel Ar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ears and sorrow their table is l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bitter mixture their drink hast Thou ma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Thy favor, restore us Thy gr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we shall live in the light of Thy f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made us a scorn to our neighbors ar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oes in laughter and scoffing abou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, God of Isr’el, return unto Th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from heaven and visit this v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shall we wander, delighting in sham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 us, O Lord, for we call on Thy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the Shephe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 ar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ar Thou our prayer and Thy favor impar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u leader of Joseph, Thou guide of his way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id cherubim dwelling Thy glory displ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Ephraim’s, Manasseh’s and Benjamin’s s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hou and save us; awake in Thy m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long in anger will Thou turn away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of hosts, when Thy people do pra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7Z</dcterms:modified>
  <cp:revision>258</cp:revision>
  <dc:subject/>
  <dc:title>Slide 1</dc:title>
</cp:coreProperties>
</file>