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9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w My Vi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iches I need no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life’s empty prais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, my inheritance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nd always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and You only are first in my hear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God my treasure let me never depar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w my vis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od of my hear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thing surpasses the love You impart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my best though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y day or by night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aking or sleeping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r presence my ligh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e now my wisdo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 my true wor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’m ever with You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with me, Lor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You my great Father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help me to se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and forever Your child I will b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5Z</dcterms:modified>
  <cp:revision>258</cp:revision>
  <dc:subject/>
  <dc:title>Slide 1</dc:title>
</cp:coreProperties>
</file>