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i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crossed o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ormy sea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ee the wond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 in the deep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praise thei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His goo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His work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fi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ungr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who are thirsty He satisf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are bou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darkness and chains, For their rebell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the Most Hig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praise thei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His goo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His lov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open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risons w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aved men from death where they lay enslav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troub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cried to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His w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delivered their liv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praise thei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He does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ons of me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they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houts of jo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songs of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6:27:24Z</dcterms:modified>
  <cp:revision>260</cp:revision>
  <dc:subject/>
  <dc:title>Slide 1</dc:title>
</cp:coreProperties>
</file>