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04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Ye the Lord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ye the Lord!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ye the Lord!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from the heavens and praise in the heights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Him, ye angels, Praise Him, ye host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Glory is highe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n heaven abov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lifted high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horn of His people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has exalte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praise of His saints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y are a peopl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ear unto God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children of Israel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ye the Lord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ye the Lord!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ye the Lord!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from the heavens and praise in the heights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Him, ye angels, praise Him, ye host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Praise Him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e sun, moon and star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the heights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aven of heaven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aters abov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the Eternal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all praise His nam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297144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en He commande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y were create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by a decre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ixed their bounds evermore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29714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ye the Lord!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e mammals and deeps too, Fire, hail and windstorms fulfilling His word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971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Vapours and snow, al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lls, too, and mountains, all cedars and fruitful trees, let’s praise His nam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ld beasts and cattle,  birds and all reptiles, Earth’s kings and judges, all people and chiefs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oung men and maidens, old men and children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praise ye the nam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our God evermore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16T19:00:41Z</dcterms:modified>
  <cp:revision>261</cp:revision>
  <dc:subject/>
  <dc:title>Slide 1</dc:title>
</cp:coreProperties>
</file>