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each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May K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each me that I may know of the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 should g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o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lift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me fr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my fo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lee to hide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ill to d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t my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b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go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my soul from trouble and for Thy name’s sake quicken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nd of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y’s sak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off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oes, destroy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ich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flict my sou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ervant,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8:23:54Z</dcterms:modified>
  <cp:revision>260</cp:revision>
  <dc:subject/>
  <dc:title>Slide 1</dc:title>
</cp:coreProperties>
</file>