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(Continually Are Se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do Thou keep my soul,     do Thou deliver m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never be ashamed  because I trust in The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prightness and truth keep me, who Thee atten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mption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Israel fro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oubles s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continually are se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t is that shall bring forth my feet out of the ne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nto me Thy face, and to me mercy show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at I am desolate and am brought very 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’s grief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increa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lieve me from distres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mine afflic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p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my sins forgiv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ou my foes, because they many ar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a cruel hatred is   which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me be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14:23Z</dcterms:modified>
  <cp:revision>261</cp:revision>
  <dc:subject/>
  <dc:title>Slide 1</dc:title>
</cp:coreProperties>
</file>