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Pleas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all who believe in His great name might be 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voices united, together we sta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peace with the Heavenly Father and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come i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nowledg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y of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e grow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follow the step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trod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Dwelling safely toge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body, one spir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Lord and one fai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holy Creat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baptism pictu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everm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hope and salvation, just as we are cal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pleasa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brethren to dwel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dew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descended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long bef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ommanded a blessing of lif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Dwelling safely toge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in un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David did t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beautiful music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breathtaking vie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ost precious ointment, like fresh morning dew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escended on the mountains of Zion long bef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ommanded a blessing of life for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Dwelling safely toge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Jesus was praying with fervent desi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00:58Z</dcterms:modified>
  <cp:revision>261</cp:revision>
  <dc:subject/>
  <dc:title>Slide 1</dc:title>
</cp:coreProperties>
</file>