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truck at Egypt’s stubborn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firstbo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ook in wra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d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u the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ighty k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y nam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estroyed and put to shame; Isr’el was saved from all thei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unto th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ord of lord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perform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ful work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tretched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was H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great light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su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the n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and stars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28:16Z</dcterms:modified>
  <cp:revision>261</cp:revision>
  <dc:subject/>
  <dc:title>Slide 1</dc:title>
</cp:coreProperties>
</file>