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te the Though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Van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will s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naught all those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precepts st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ir own l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all in va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mselves decei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cou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dro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fore do I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love Thy la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estimonies p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te the thoughts of vanity but I do love Thy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shie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ding pla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on Thy word re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e who evildoers are, from me depart aw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e precep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urpose to ob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hold and strengthen me according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ithful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may l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Thy hop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never be asham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hold me sa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ill let me del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or the statu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may have deep respec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7:27:47Z</dcterms:modified>
  <cp:revision>260</cp:revision>
  <dc:subject/>
  <dc:title>Slide 1</dc:title>
</cp:coreProperties>
</file>