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19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Speaks to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when this plac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s been prepared for you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return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Me you shall be too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that where I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m you may also b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that where I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m you may also b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speaks to u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y His great pow’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’re le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not your heart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come disquiete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trust in Go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lieve and trust in M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trust in Go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lieve and trust in M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God’s vast real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e many office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re it not so, I surely would have sai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I must go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place for you prepar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I must go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place for you prepar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6T21:12:51Z</dcterms:modified>
  <cp:revision>260</cp:revision>
  <dc:subject/>
  <dc:title>Slide 1</dc:title>
</cp:coreProperties>
</file>