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l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Are Forgiv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                       God’s hand was on me,             and I groan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 confess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s I laid before Him; quickly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ave them all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godly one                      shall pray thus,                     whil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foun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be glad all you up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righteo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for jo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lest who are forgiven, to whom God imputes no sin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go to the Eternal, and confess to Him their sin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iniquit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cover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m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s instruct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ing, “I will direc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in the way that you should go.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sorrows have the wicked, who know not the way of Go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s mules or horses which are held                                   by bridles strong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e glad in the Eternal, and rejoice all you jus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for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upr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hose spir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no guil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11:04Z</dcterms:modified>
  <cp:revision>260</cp:revision>
  <dc:subject/>
  <dc:title>Slide 1</dc:title>
</cp:coreProperties>
</file>