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86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and Happy is H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and happy is h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obeys and fears Go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hall earn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aily bread,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 shall be well with him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his wife in his house, as a vine that bears frui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is sons ‘rou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tabl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like olive plants b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and happy is h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obeys and fears Go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t of Zion the Eternal will this blessing send him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e days of his lif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and his sons shall thriv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971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shall see Isr’el flourish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Jerusalem, peac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17:39:31Z</dcterms:modified>
  <cp:revision>260</cp:revision>
  <dc:subject/>
  <dc:title>Slide 1</dc:title>
</cp:coreProperties>
</file>