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w the Hor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Zion Hea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ople are fain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ir s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ru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mighty me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ving eac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his own wa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do not tangl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ir paths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ch does follo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own lin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limbing wall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men of war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they charg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warrior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dvance like fighter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on their way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upon the city leap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eak thru weapon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ch unharm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un upon the wall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limb in hous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u the windows leap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is quak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y com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shak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ars cease to shin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the Eternal thunder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sun and mo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ome both black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w the hor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Zion hea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’s day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at hand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peopl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emble in thi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 of clou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loominess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oops so grea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ighty stro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has n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en the lik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hing shall escap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as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vour the stubb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ir wa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re before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devou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lames ablaz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left behi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s Edo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s shall becom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wildernes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’s desolat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the no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chariot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s horseme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they run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hing shall escap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as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vour the stubb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ir wa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7T23:54:36Z</dcterms:modified>
  <cp:revision>267</cp:revision>
  <dc:subject/>
  <dc:title>Slide 1</dc:title>
</cp:coreProperties>
</file>