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H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Lift Mine Eye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h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lift mine ey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h, from when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my help?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s from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th ma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en and eart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e’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they guid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fo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never slid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ho keepeth Israe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slumbe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sleep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thy keep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shall 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shad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y right ha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ither su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day shall smit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the sile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on by ni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guar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il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thy so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afety still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oth withou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 doo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keep th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ev-er-more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21:42:48Z</dcterms:modified>
  <cp:revision>265</cp:revision>
  <dc:subject/>
  <dc:title>Slide 1</dc:title>
</cp:coreProperties>
</file>