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Me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y Great Na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freewill off’r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to Th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bring in sacrific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of Thy na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t is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praises will I s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He ha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livered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ll adversiti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desi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ne eye hath se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on mine enemi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me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y great name and judge me by Thy streng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prayer h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my wor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give ear to 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t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angers are to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up against me r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ppressors d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care fo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seek to take my lif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ighty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elper i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, therefore I am bol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taketh p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ev’ry one, that do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uphol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ll my watchful fo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evil deeds rep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for Thy truth’s sak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ut them of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ake them all aw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01:10:01Z</dcterms:modified>
  <cp:revision>261</cp:revision>
  <dc:subject/>
  <dc:title>Slide 1</dc:title>
</cp:coreProperties>
</file>