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17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nsider the Lili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nsider the lili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ow they grow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y never toi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r spin you know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t Solom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all his finer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as never array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one of thes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look at the raven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p in the ai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y never so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r gather ther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t your Father feeds them from day to day.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you not of far more worth than they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f God clothes the grass of the field this wa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ich lives and which dies in a single day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f God feeds the birds of the heavens, too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He not do ev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re for you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So therefore I sa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ake no anxious car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what you shall e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hat you shall wear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971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seek first God’s kingdom and righteousnes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ith all these thing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shall be blesse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21:04:53Z</dcterms:modified>
  <cp:revision>259</cp:revision>
  <dc:subject/>
  <dc:title>Slide 1</dc:title>
</cp:coreProperties>
</file>