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0 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Se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ks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see the works of God displayed, wonders of His mighty ha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solations He has made, ruins spread through all the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still, know I am God Most High; o’er the heathen I will reign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to us is nigh; Jacob’s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lp remai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strength and refuge proves, in all distress a present ai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the trembl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remove, we will never be dismay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s mov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tions rag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earth mel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for                  us engaged, our refuge high is Jacob’s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iver flows, whose living streams gladden the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nts where heavenly glory beams, where the Lord has His abo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Zion His dwelling made; she shall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be mo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God shall early give His aid; He her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ever prov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00:10:23Z</dcterms:modified>
  <cp:revision>261</cp:revision>
  <dc:subject/>
  <dc:title>Slide 1</dc:title>
</cp:coreProperties>
</file>