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Dwell On Thy Holy Hill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who shall dwell in the temple of Thy grac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on Thy holy hill have a fixed abiding plac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walks in righteousness, all his actions just and clear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se wor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th express,                                  spoken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heart sincer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ne’er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landering tongue utters malice and decei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ll ne’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eighbor wro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a sland’r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le repea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ll claim no usury, nor with brib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llute his han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th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rame his li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unmov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st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41:57Z</dcterms:modified>
  <cp:revision>261</cp:revision>
  <dc:subject/>
  <dc:title>Slide 1</dc:title>
</cp:coreProperties>
</file>