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Lift My So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tender mercies, Lord, remember, pray I The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 loving-kind-ness-es,     for they have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en of ol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s and faults of youth  do Thou, O Lord, forget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ter Thy mercy,              think on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ness grea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lift my sou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trust Thee, O my Go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not be ashamed, nor let my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o’er m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ne that wait on Thee, be put to shame at all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ose that without cause transgr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shame upon them fall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me Thy way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; O teach Thou me Thy path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Thyself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in my teacher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God that dost  to me salvation sen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upon Thee all the day, expecting, do att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48:27Z</dcterms:modified>
  <cp:revision>263</cp:revision>
  <dc:subject/>
  <dc:title>Slide 1</dc:title>
</cp:coreProperties>
</file>