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Praise Thee, O God, Our Redeem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voices uni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praises we off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, great Eternal, glad anthems we 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rong arm will guide us; our God is beside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, our great Redeemer, for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praise Thee, O God, our Redeemer, Creato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rateful devo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tribute we br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lay it before Th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kneel and adore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bless Thy hol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 praises we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orship Thee, God of our fathers, we bless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life’s stor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mp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uide hast Thou be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perils o’ertake us, escape Thou wilt make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Thy help, O Lord, our battles we w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2:51:12Z</dcterms:modified>
  <cp:revision>260</cp:revision>
  <dc:subject/>
  <dc:title>Slide 1</dc:title>
</cp:coreProperties>
</file>