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My Roc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lv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ness and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ng 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ward ev’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for his work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my roc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lvation, my hop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in sil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s for my God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for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not be remov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igh tower of streng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cue sha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y God alo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shall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greatly remov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, 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 in silence fo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and refu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in my God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Rock, my salvation and strength; With God alone shall my deliverance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l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pleasure in sin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plot and threat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fe of the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ain men are they, delighting in craf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lips they bless with, but they curse inward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w men or hig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th are less than a breath; Trust and rely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xtortion and 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1:43:24Z</dcterms:modified>
  <cp:revision>261</cp:revision>
  <dc:subject/>
  <dc:title>Slide 1</dc:title>
</cp:coreProperties>
</file>