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my medit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day in my though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held back my feet from the ways of this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given me wis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righteous command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more understanding than the ancients of 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precepts I learn ev’ry false way to hat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more understanding for I dwell on Thy la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hy commands make me wis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my unfriendl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sweet are Th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honey is sweet!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judgments, Eternal,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never dep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19:33Z</dcterms:modified>
  <cp:revision>260</cp:revision>
  <dc:subject/>
  <dc:title>Slide 1</dc:title>
</cp:coreProperties>
</file>