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0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! Praise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unto the Eternal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your hope be in Him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remains true forever; He gives justice to al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! Praise God! The Eternal shall reig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reign for all ages, our King and our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unto the Eternal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your praises to Him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29714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ut your trust not in mortal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n them is no help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! Praise God! The Eternal shall reig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reign for all ages, our King and our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unto the Eternal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your praises to Him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t was who made heav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rth and sea and all thing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! Praise God! The Eternal shall reig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reign for all ages, our King and our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18:26:55Z</dcterms:modified>
  <cp:revision>261</cp:revision>
  <dc:subject/>
  <dc:title>Slide 1</dc:title>
</cp:coreProperties>
</file>