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God of My Salvatio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rns my eye,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wers languis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e afflictio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esses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cry t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in anguis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ily stretch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s to The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, my God,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l forsak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st ThouTh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ce from m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Thou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lvatio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 I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y to Thee;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humb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pplication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quickly bow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 to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ed with grief,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l is sighing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grave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draws near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umbered n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ong the dying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one helpl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ppe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 to sleep i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chamb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slain with-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grave;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m Thou dost n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rememb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m Thy hand n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shall sav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pit Th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 has laid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rk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deep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ely has Th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rath dismayed m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my so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fliction sweep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6:06:38Z</dcterms:modified>
  <cp:revision>265</cp:revision>
  <dc:subject/>
  <dc:title>Slide 1</dc:title>
</cp:coreProperties>
</file>