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, O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we have forgott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ou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unto some ido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ands spread abroa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ot thee Al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es all with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s the heart’s secrets, discover this sin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ll the day lo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consum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sheep for the slaught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ath we are doo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, O Eterna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leep Thou no mo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 and our hel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st not off evermor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e I constantl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my disgrac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me and confusi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covered my fac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sound of the taun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ers’ delight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rts full of hate and revengeful despi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all these sore evi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our sad lo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and His cov’na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not forgot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 turned not bac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ur fe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not straye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broken mid jacka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death for our shad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18:48:16Z</dcterms:modified>
  <cp:revision>265</cp:revision>
  <dc:subject/>
  <dc:title>Slide 1</dc:title>
</cp:coreProperties>
</file>