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Thou Art M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and King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Thou art m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and King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Thee exal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praise proclaim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Thee ble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ladly s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ever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holy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ou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st gracious i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Him compassio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so flow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mercy He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ch to ble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unto ang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slow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all the Lord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ery go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all His wor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mercy i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orks all pra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e aff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aints, O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name shall bles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Kingdom’s glo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show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Thy pow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so te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that men’s so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deeds may kno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gdom’s gra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doth exce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18:29:51Z</dcterms:modified>
  <cp:revision>262</cp:revision>
  <dc:subject/>
  <dc:title>Slide 1</dc:title>
</cp:coreProperties>
</file>