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8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the Shephe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 A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ears and sorrow their table is la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bitter mixt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drin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Thou ma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Thy favo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tore us Thy gr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we shall live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ght of Thy f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made us a scorn to our neighbors arou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oes in laugh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coffing abou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, God of Isr’el, return unto Thi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down from heaven and visit this vi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more shall we wander, delighting in sham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us, O Lord,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we call on Thy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the Shephe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 ar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Thou our pray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favor impar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leader of Josep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guide of his way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d cherubim dwell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y displ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Ephraim’s, Manasseh’s and Benjamin’s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hou and save us; awake in Thy m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in ang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Thou turn away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y people do pra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2:45:59Z</dcterms:modified>
  <cp:revision>261</cp:revision>
  <dc:subject/>
  <dc:title>Slide 1</dc:title>
</cp:coreProperties>
</file>