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8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clare His Wor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All Nation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Most Hig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Zion dwell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not forget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people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decla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great work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e will no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get their cry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ise, O Lord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ut them all in fear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e nations th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get that Thou art God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udge them,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fore The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 nations kn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re but men!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 1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sing, O Most High, praises to Thy na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my whole heart!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procla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wonder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rejoi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exult in Thee!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foes fall at Thy sight, for Thou hast maintained my cause and my cry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will judg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His thron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rema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-ev-er-more!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will rule up-right-ly, judge the worl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righteousness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oppress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seek Hi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to the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refuge be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not forge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se who put their trust and confidence in Him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Lord sing praises; declare His wor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all nations!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5:49:29Z</dcterms:modified>
  <cp:revision>262</cp:revision>
  <dc:subject/>
  <dc:title>Slide 1</dc:title>
</cp:coreProperties>
</file>