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4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Heavens God’s Glor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 Decla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aw of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a perfect law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t converts the soul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ure are the saying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our God, they mak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imple wise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atutes of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right and jus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do rejoice the heart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’s commandmen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pure and clear,             and ligh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mind impart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heav’ns God’s glory do declare, the ski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handiworks teach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ay after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speech pours forth, and knowledg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ight after night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is no speech n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poken word; their voi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never heard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yet their voice spreads to all the earth, their works to the ends of the world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heav’ns a tent for the sun He made, which comes forth like a bridegroom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aving his chamb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wing bright, to ru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course with joy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heaven’s e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s rising i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s circuit to its ends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re is noth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its heat, no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hing is hidden thereof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5:39:11Z</dcterms:modified>
  <cp:revision>261</cp:revision>
  <dc:subject/>
  <dc:title>Slide 1</dc:title>
</cp:coreProperties>
</file>