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ven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Youth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reat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pow’r Thou will increase and far exte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all grie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v’r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 will comfort se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als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y tru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ith psalter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oly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, with har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to Th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ven from my you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by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I been tau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ther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decla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n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wrou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sake me no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am old and g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 procla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ndrous dee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is and ev’ry ag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erfect righteousness, O God, the heaven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ight excee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ho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e, who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formed su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y deed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who hast sh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trials s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eat adversiti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quicken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 and bring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depths of ea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4:00:06Z</dcterms:modified>
  <cp:revision>259</cp:revision>
  <dc:subject/>
  <dc:title>Slide 1</dc:title>
</cp:coreProperties>
</file>