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06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Sing to the Etern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ations hea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it and tremble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read and terro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them fel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iefs of Edo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re affrighte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all trembl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ir fear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haroah’s horsemen        and his chariots            sank into the churning sea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Eternal,                           led His people                over dry land                 thru the sea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sing to the Eternal; He ha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riumphed gloriously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has stretched ou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right hand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urled the foe into the sea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Eternal,                            You are my strength,       my song,                            my great salvation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Eterna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my God and I        will glorify His name!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“I will chase the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overtake the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atch the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divide the spoil.”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id the fo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“I will destroy them,”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the fo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rown’d in the sea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Eterna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t Your bla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waters piled up,        tides were damm’d!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Eternal, who is like You,  glorious in holiness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6T21:40:56Z</dcterms:modified>
  <cp:revision>262</cp:revision>
  <dc:subject/>
  <dc:title>Slide 1</dc:title>
</cp:coreProperties>
</file>