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ruth Everm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’s words are fals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empty and v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utters li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neighbor he boas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put their trus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flattering speec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xalted are the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ong sons of me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us, O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merciful cea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ithfulness fail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cked men have their w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ll speak li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with double heart speak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all cut off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peak boastful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oor men are crush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needy have sigh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aris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deliverer shall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set them saf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promise is pu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ruth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2:27:23Z</dcterms:modified>
  <cp:revision>262</cp:revision>
  <dc:subject/>
  <dc:title>Slide 1</dc:title>
</cp:coreProperties>
</file>