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a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tree that grow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nted by the river’s sid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in seas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ields its frui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en its leaves abid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 does prospers we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are not so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chaf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wi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iven to and fr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oes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lk astray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with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godly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s in sinners’ 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 does prospers we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are not so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chaff before the wind, driven to and fr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’er in scorner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air he si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places his delight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’s la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dita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it day and n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 does prospers we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are not so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chaff before the wind, driven to and fr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6:21:38Z</dcterms:modified>
  <cp:revision>259</cp:revision>
  <dc:subject/>
  <dc:title>Slide 1</dc:title>
</cp:coreProperties>
</file>