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5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ing Songs of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to Him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His own people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would not hear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would not hea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voice;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only want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ir own way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llowing their own heart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“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that My peopl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ould obey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alking in all My ways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should have soon delivered them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urned My h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gainst their foes!”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the Eterna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a psalm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ing songs of prais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Him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lay on the timbre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e harp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make a joyful nois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is is a statute and a law God has ordained for us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 appoint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ime to keep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is do o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’s solemn feast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low on the trumpet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ing a psalm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ake joyful noise to God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has deliver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s from sin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aved us fro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gypt’s land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cried to Go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bondage there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heard 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swered u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om thundercloud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answered us: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“Hear, O My peopl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ar My words!”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8T04:08:02Z</dcterms:modified>
  <cp:revision>259</cp:revision>
  <dc:subject/>
  <dc:title>Slide 1</dc:title>
</cp:coreProperties>
</file>