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not a plant or flow’r below, but makes Thy glories know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ouds arise and tempests blow, by order from Thy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all that bo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rom Thee is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c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where that man can be, Thou, God, art present the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mighty pow’r of God, that made the mountains r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pread the flowing seas abroad, and built the lofty sk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wisdom that ordained the sun to rule the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shines full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mand, and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goodness of the Lord, that fill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with f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ormed the creatures with His word, and then proclaimed them go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ow Thy wonders are displayed, where-e’er I turn my ey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survey the ground I tread or gaze upon the sk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35:38Z</dcterms:modified>
  <cp:revision>259</cp:revision>
  <dc:subject/>
  <dc:title>Slide 1</dc:title>
</cp:coreProperties>
</file>