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Our God Forev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pea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return to u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rejoi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be gla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mercy be upon u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 us Your loving-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d-ness-es, that w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once a-gain re-joi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hou has bee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dwelling plac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eternity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re ever mountain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re brought fort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our God foreve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knows Thy pow’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knows Thy wrath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of us drea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nger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, Eterna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grace; make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ad that we might rejoic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days are three-scor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rs and te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at the best four-sco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Even as Thou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f-flict-ed 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so make us gla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E-ter-nal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ere consum’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great wrath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sins were bar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-fore The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us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count our day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r wisdom may fil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art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16:22:57Z</dcterms:modified>
  <cp:revision>265</cp:revision>
  <dc:subject/>
  <dc:title>Slide 1</dc:title>
</cp:coreProperties>
</file>