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23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sed Is the Nati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Is Fo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y the Word of God the heav’ns were made, waters of the sea He gathere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storage places            laid the deeps, let all       the earth revere Him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the people stand in awe of Him, for He spoke and earth existe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He commanded it stood fast; by His word were the heav’ns create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Kings will not be saved by armies great, nor a mighty man delivered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one is saved by his own strength, nor by        some other power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the eyes of God are on the just, those who fear and worship Him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wait for Him, who hope for Him, those who trust in the God of Isr’el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sed is the nati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is for, and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eople He has chosen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God looks down         from heav’n above,               and He beholds all nations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His place abo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looks on all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ees their ev’ry doing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ees their si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ees their works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beholds all of tho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fear Him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you righteous in the Lord, rejoic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ngs of prai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fit the upright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lay skillfully upon the strings, sing to Him a joyful new song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 Word of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right and jus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His works are tru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faithfu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loving-kind-ness fills the earth, for He loves righteousness and justic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05:05:42Z</dcterms:modified>
  <cp:revision>262</cp:revision>
  <dc:subject/>
  <dc:title>Slide 1</dc:title>
</cp:coreProperties>
</file>