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less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peoples, make His praises to be hea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n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rateful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 kept us safe in l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t allow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eet to sli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You have tested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we were captu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our fo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have You set us fr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ill I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ay my vow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ws which my lips have spoken, which I promised when distress’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who fear Him, come and hear, come you who worship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declare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done,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one for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to G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d out, I extolled Him with high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I of sin been thinking, surely God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praise God, all the earth sing forth 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indeed has heard my pray’r; blessed be God who hea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not che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’r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His own love to 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and honor g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, sing homa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 now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ow dread Your works, how awesome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great Your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foes subm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s You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and se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works, among men how dread His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urned the se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ry land and the multitudes passed thr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all rejoice in Him, who by His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r rul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eyes obser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ations watc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ne shall exalt himself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58:52Z</dcterms:modified>
  <cp:revision>260</cp:revision>
  <dc:subject/>
  <dc:title>Slide 1</dc:title>
</cp:coreProperties>
</file>