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Be the Ti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be the tie that bind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hearts i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Chris-tian love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el-low-shi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kin-dred min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like to that a-bov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-fore our Fa-ther’s thron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pour 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-dent prayer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fears, our hope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aims    are on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comforts and our care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971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share our mu-tual woe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mu-tual bur-dens be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-ten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ch oth-er flow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sym-pa-thiz-ing tear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we asunder par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gives us inward pa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we shall st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joined in hear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ope to meet again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0:56:09Z</dcterms:modified>
  <cp:revision>268</cp:revision>
  <dc:subject/>
  <dc:title>Slide 1</dc:title>
</cp:coreProperties>
</file>