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52BB-374E-421C-B859-9CFFCD92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75F7-7D4E-4C71-8A3B-95133257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C725-58E7-48E3-B701-094AD598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B262-7412-4791-8E09-F84ADC87D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03FF-1A1A-4277-AC7D-61C0F3B9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2D5D-E823-44C5-82D5-468688D2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A5B5-E0F8-4D53-8DDF-12C943EC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BBE6-A525-490F-87BD-3E1788F9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CEC9-BB4E-4A72-9EDC-404060F8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1706-A2FF-4211-9AB5-FB59198C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5805-9CDF-4FB0-9400-E3A7DDC7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FEB3-4659-41C5-B9F2-5C079EE3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2CDD-8909-44FC-BE6A-A077328F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D1FB-588C-4E97-BFE1-4CB81000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BFE5-C82C-4C26-84D5-882EE4E9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0376-6259-4D83-9728-59A55EB6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E02D-3BFB-4D2D-A63D-AFFA42E9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5985-21F7-482B-A9F7-99B57CF1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1F09-23F8-4DF4-8952-2E975B1B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C589-ED19-4568-A728-256C5882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9D20-51DB-4DE8-A7CE-163ADFD3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7596-AAD5-4F72-B7D6-132BBA1F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3B7D-DC71-41A0-9C0D-B029EA1C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D42A-1F76-4EB4-8D1E-57B07814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FF85-D64B-406A-9901-F4289620A3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7103-E20E-4BDD-812C-C87109E87B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5T00:46:18Z</dcterms:created>
  <dc:creator>David Campbell</dc:creator>
  <dc:description>A gift to the Living Church of God.  June 18, 2010</dc:description>
  <dc:language>en-US</dc:language>
  <cp:lastModifiedBy>dwc</cp:lastModifiedBy>
  <dcterms:modified xsi:type="dcterms:W3CDTF">2010-06-23T04:26:26Z</dcterms:modified>
  <cp:revision>72</cp:revision>
  <dc:subject/>
  <dc:title>     Hym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