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hall Wipe Every Tear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the ransom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 shall retur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ing to Zion sing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y and glad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they all obtai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oic-es of yout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be ring-ing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ll redeem man-kind from dea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ive them back thei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e and breath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all the ransom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 shall retur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ing to Zion with song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hall wipe ev’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r from their eye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pe ev’ry tear away.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learn th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fear their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mer th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all pass away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will be no mor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rrow or cry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will be no mor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ain or dying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hall wipe ev’r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r from their eye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pe ev’ry tear away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hall op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yes of the blin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f the deaf shall h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tongue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dumb shall s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ame men will lea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st like the de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eams in the deser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ters flow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derness place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ooming and growing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hall op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yes of the blin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f the deaf shall hear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18:03:24Z</dcterms:modified>
  <cp:revision>269</cp:revision>
  <dc:subject/>
  <dc:title>Slide 1</dc:title>
</cp:coreProperties>
</file>