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65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’ll Sing of Merc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of Justice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’ll cut him off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slandereth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neighbor privily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haughty heart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will not bear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r him that look-eth high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pon the faithful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the land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ine eyes shall always be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favor shall I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ok on them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the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y dwell with me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 man who practic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e-ceit shall dwe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in my hous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in my presenc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no man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emain who utters lies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ea, all the wicked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the land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early will destroy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And cut off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e-vil-do-ers from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the city of the Lord.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’ll sing of mercy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of justice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, I’ll sing to Thee;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wisdom i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 perfect way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my behavior be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whe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kindness unto me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lt Thou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 pleased to come?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with a perfect heart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ll walk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in my house at home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will endur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 wicked thi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fore mine eyes to b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hate their work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turn asid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t shall not cleave to me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 stubbor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a froward hear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quite depart from me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I with a perfect heart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will walk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within my house at home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7T21:28:48Z</dcterms:modified>
  <cp:revision>267</cp:revision>
  <dc:subject/>
  <dc:title>Slide 1</dc:title>
</cp:coreProperties>
</file>