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y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hast made him little 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the angels abov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dignit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o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’d his hea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ppointed lor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under his feet: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sheep and ox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nd beas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n the field do str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in all the earth, Lord our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y nam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Thy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dvanced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ry fram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uths of babes and infants, Lord, strength by Thee is ordained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Thy enem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crushed; Thy venge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es restraine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look up unto the heav’ns which Thine own fingers framed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moon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stars, which we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ordain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ay I, what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that Thou sh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mindful of him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what, the son of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o k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should b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56:54Z</dcterms:modified>
  <cp:revision>259</cp:revision>
  <dc:subject/>
  <dc:title>Slide 1</dc:title>
</cp:coreProperties>
</file>