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trust will I place          in my bow to de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yet on my sword       for my safety depe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 who has saved      us and put them to sh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oast all the day,        ever praising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 and our fathers have taugh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ks which of old    in their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wro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were crushed and expelled by Thy h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st out that Thy people might dwell in their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gained not the land by the edge of the s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arm to them could no safety aff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y Thy right hand,     O my Savior and K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and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ance br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3:36:16Z</dcterms:modified>
  <cp:revision>260</cp:revision>
  <dc:subject/>
  <dc:title>Slide 1</dc:title>
</cp:coreProperties>
</file>