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Eyes Behold the Children of 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Eternal I put all my trust; what can you say, to a mountain escape: flee like a bird from the peril, in has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how the wicked aim with their bow; furtively shoot at the upright in heart! Impious men who wait in the dark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foundations are falling apart, what can the righteous man do in this plight? Ah, the Eternal is there on His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eyes behold the children of men; testing and proving the righteous in heart; requiting evil, violent 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on the Eternal shall send from above fire, hail and brimstone and scorching hot winds, This is the portion of their cup to b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ternal loves righteous deeds. Those who are upright shall look on His face; He looks on them and favor imp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8:02Z</dcterms:modified>
  <cp:revision>264</cp:revision>
  <dc:subject/>
  <dc:title>Slide 1</dc:title>
</cp:coreProperties>
</file>