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Prayer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was fai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ried to God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ear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has b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welling pla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helter from the f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ill I foreverm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 fore’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aily pay my v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arth’s far end I c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d me to the Roc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gher is than I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have b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helte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fort against the f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me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dwelling pl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id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has he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ws and granted righteous heritag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are for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trust i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ar His hol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God pro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e king’s lif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let Him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may s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d in righteous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1:32:06Z</dcterms:modified>
  <cp:revision>260</cp:revision>
  <dc:subject/>
  <dc:title>Slide 1</dc:title>
</cp:coreProperties>
</file>