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108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e Not Afraid My People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 will return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ith Me ye shall be always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y steadfast love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hall not depart from you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 am the Go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f Abraham and Jacob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ift your heads, redemption’s near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e ye not afraid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e not afraid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e not afraid, My people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 am your Go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ho watches over you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 do not sleep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neither will I slumber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ons, be not afraid of man, be ye not afraid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2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hat can man do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o those whom I love so?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29714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hat can man do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o those who fear My name?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 am the Lord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protecting you from danger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ough the mountains quake and roar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e ye not afraid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David Campbell</dc:creator>
  <dc:description/>
  <dc:language>en-US</dc:language>
  <cp:lastModifiedBy>dwc</cp:lastModifiedBy>
  <dcterms:modified xsi:type="dcterms:W3CDTF">2010-06-16T22:32:35Z</dcterms:modified>
  <cp:revision>260</cp:revision>
  <dc:subject/>
  <dc:title>Slide 1</dc:title>
</cp:coreProperties>
</file>