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Wise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re Call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foolish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er by far than man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weak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er far than man 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who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ast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in their own greatn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wise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noble brethr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sen on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 see your calling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wisd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ank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God but foolis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hose the fool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hose the wea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se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hose the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are despis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no flesh should gl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 are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nfound the migh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1:15:01Z</dcterms:modified>
  <cp:revision>260</cp:revision>
  <dc:subject/>
  <dc:title>Slide 1</dc:title>
</cp:coreProperties>
</file>