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 Ye Ther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All th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Christ was tak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 into the heav’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fter He ha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poken all these wor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His Fa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id receive Him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ace Him at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 h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discipl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nt out as He sai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preach’d the gospel ev’rywhe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worked with them and confirmed the word, By those signs which followed th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 ye ther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all the worl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each the gosp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ev’ry 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all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observe all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ve commanded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aptize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the Father’s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Holy Spirit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Son’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, I shall be with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n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, I am with you alw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ho have believ’d and are baptiz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saved whi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thers are condemn’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as for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now do belie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se Sign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rely follow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cast o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mons in My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not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urt by deadly thing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shall l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nds upon the sic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sick shall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we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38:28Z</dcterms:modified>
  <cp:revision>260</cp:revision>
  <dc:subject/>
  <dc:title>Slide 1</dc:title>
</cp:coreProperties>
</file>