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ols Have Said That There Is N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rejected all of them; they wi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to sh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ch terror the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never be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terror on them fall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 will scatt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bon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ungody me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defea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evil pla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ut them all to sha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ols have said that there is no God: they in their heart conclud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corrupt, their works are vile, not one of them doeth go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did from heav’n look down upon the sons of men abroad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 if anyone were wis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y seeking after G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all of them backward gone, all of them are depra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is none that doeth good, n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a single on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those who work iniquity no knowledge, none at all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eople they devour like bread, and on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o not cal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19:02:12Z</dcterms:modified>
  <cp:revision>264</cp:revision>
  <dc:subject/>
  <dc:title>Slide 1</dc:title>
</cp:coreProperties>
</file>