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and Rejoic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arp, with harp and voice of psalm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unto the Lor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rumpets, cornets, gladly s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Lord the K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seas and all their fullness ro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ld and dwellers the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floods clap h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 the hi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joy declar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a new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onders He hath d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ar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victory hath w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ye hill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judge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s H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judge the wor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folk with equi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a new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onders He hath d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ar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victory hath w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 His salvation, hath caused 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be kn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justice in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tions’ s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openly hath show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indful of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ce and tru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Isr’el’s house hath be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reat salv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ends 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th see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nd forth a joyful no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up your vo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oud to Hi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and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16:09Z</dcterms:modified>
  <cp:revision>260</cp:revision>
  <dc:subject/>
  <dc:title>Slide 1</dc:title>
</cp:coreProperties>
</file>