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compa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ab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passed me like be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my streng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ut them off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the g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all the righteous enter 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not di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 shall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tell o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answered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y salv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he chie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ornerst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y the buil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refu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as rejec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ows us l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kin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Is-ra-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es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is mercy alwa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endure”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aron’s household now rep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my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swer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t me fr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confid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should I f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en can do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not in princ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in ma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far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rust in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7:04:55Z</dcterms:modified>
  <cp:revision>260</cp:revision>
  <dc:subject/>
  <dc:title>Slide 1</dc:title>
</cp:coreProperties>
</file>