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raise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 who dwells in Zion, sing to Him and praise His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ll His deeds among the nations! Tell of all His glorious works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venges all His peopl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not forget their cry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 who dwe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Zion, sing to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 His name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1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raise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; I will show forth Thy great works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Most High God, Eternal, I will sing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y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my foes shall turn and stumble; at Thy presen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fall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judges rightly, and forever He will rule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lives forever; He destroy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icked men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mo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name forev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ir memory dies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He judg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ith fairnes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rule with equity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o know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trust Him; He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forsake His own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53:43Z</dcterms:modified>
  <cp:revision>261</cp:revision>
  <dc:subject/>
  <dc:title>Slide 1</dc:title>
</cp:coreProperties>
</file>