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 Forget Me,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ut my trus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great merc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shall s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 His holy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joice with my whole heart; in His salvation tru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s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great love to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me Lord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it forever b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hide Thy face from m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take counsel in my soul, and sor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exalted over 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mine enem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my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ou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 answer give to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st I should slee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leep of deat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enlighten L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st mine enemy should s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Against him I prevailed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se who troubled me rejoice when I am shaken , L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7:05Z</dcterms:modified>
  <cp:revision>264</cp:revision>
  <dc:subject/>
  <dc:title>Slide 1</dc:title>
</cp:coreProperties>
</file>