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66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hall Reign Forevermor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our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turns from heave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Zion shall be built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hall co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all His glory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hall help the destitut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praye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despise not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groan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hea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dwell in safet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our God shall retur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all peopl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are gather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serve the L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Go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decla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name in Zio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Jerusale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prais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king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see His glor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natio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971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fa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be declared the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hall reign forevermor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 my pray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ou Eternal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de not Thy face from me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 my cr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quickly answ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my d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trouble comes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gra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heart is wither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day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grass consumed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ake not my life now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midst of my day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an ow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some poor wastelan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mourn and cannot sleep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9714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a melancholy sparrow, like a pelican alon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ou, Eternal, hear me, and answer speedil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de no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face from me, Lord, for I moan bitterl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5:02:45Z</dcterms:modified>
  <cp:revision>260</cp:revision>
  <dc:subject/>
  <dc:title>Slide 1</dc:title>
</cp:coreProperties>
</file>