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97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Eternal I will Cry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Eterna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cry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ith my voice will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I entreat;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ouring before Hi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my woes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I am over-whelmed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faint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my path li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 hidden snare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is none who wi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lp nor care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 refuge saf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there but God: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help fails that i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from Him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Eternal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cry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art my refug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all strif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ear, atte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fervent cry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 me, for I am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ver-y low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ve me from m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ur-su-ing foes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ir strength is far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re than mine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shall I giv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nks to Thy nam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y boun-ti-ful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od-ness, Lord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7:20:55Z</dcterms:modified>
  <cp:revision>266</cp:revision>
  <dc:subject/>
  <dc:title>Slide 1</dc:title>
</cp:coreProperties>
</file>