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30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Hail the Pow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Him a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jesty ascrib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hail Hi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 of all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that, with yond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gel throng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at His feet may fall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’ll join t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verlasting song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hail Hi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 of all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’ll join t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verlasting song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hail Hi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 of all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hail the pow’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Jesus’ name!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angels prostrate fall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hold the royal diadem, and hail Hi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 of all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hold the royal diadem, and hail Hi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 of all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e chosen se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Israel’s rac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e who did hea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call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Him who saves you by His grac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hail Hi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 of all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Him who saves you by His grac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hail Hi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 of all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ev’ry kindre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v’ry trib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 this terrestrial ball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Him a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jesty ascrib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hail Hi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 of all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6T22:28:53Z</dcterms:modified>
  <cp:revision>261</cp:revision>
  <dc:subject/>
  <dc:title>Slide 1</dc:title>
</cp:coreProperties>
</file>