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28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Is Our Refug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is our refuge               and our strength,                      in straits a present ai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refore although                the earth remove,             we will not be afrai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gh hills amidst           the seas be cast;                  tho’ waters roaring mak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roubled be;                  yea though the hills          by swelling seas do shak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river is,                                   whose streams make glad the city of our Go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holy place,         wherein the Lord                Most High has His abod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971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in the midst                of her doth dwell,                       and nothing shall her move; 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to her                            an helper will,                      and that right early, prov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5T23:44:20Z</dcterms:modified>
  <cp:revision>259</cp:revision>
  <dc:subject/>
  <dc:title>Slide 1</dc:title>
</cp:coreProperties>
</file>