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0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and Uprigh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oul shall dwell at ease, and his posterity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lourish st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heritors shall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ose that fear Him is the secret of the Lor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nowledge of                       His covenant                                He will to them aff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go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up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sinners show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ek in judg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guide and m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aths to know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hole pa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rcy sur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that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stimonies p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,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own name’s sa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I Thee entrea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ardon mine iniquity, for it is very grea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is he that fears  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oth Him serv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shall He teach of His own way, the way                     that he should choo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18:07Z</dcterms:modified>
  <cp:revision>260</cp:revision>
  <dc:subject/>
  <dc:title>Slide 1</dc:title>
</cp:coreProperties>
</file>