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Ear to My Pray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remember days of ol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ditate on all Thy way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muse 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y work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y han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wrought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fter The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oul does thirs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a thirsty la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-lah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e, Lor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ke haste I pray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my spirit fail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hear 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pray of The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de not Th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face from 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st like unto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b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wn unto the dust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use Thy servan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to hear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w Thy lov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dness, Lord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 lift my soul to The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in Thee do trust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ear to my pray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 Lor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y supplication hear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swer me in faithfulnes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righteousnes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to judgment enter no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y servan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I pray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no living man is jus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ghteous in Thy sight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enemy, my fo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rsecuted he my sou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9714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life hath he smitten dow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wn unto the ground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de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darkness dwell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ose that ha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ng been dead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pirit is overwhelme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eart desolat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7T23:31:55Z</dcterms:modified>
  <cp:revision>266</cp:revision>
  <dc:subject/>
  <dc:title>Slide 1</dc:title>
</cp:coreProperties>
</file>