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675-0237-4305-AF53-4817B2CB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856-D8EA-4512-BF89-9F2AB899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ECF-15E9-4654-BD96-1C909833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463-9EB9-407D-B8FD-E12F5EA8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E492-6778-48C4-B6D2-43772184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63A2-63D7-48CD-B11A-0CE4636F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3670-8EF3-4F3C-88DB-17845C2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A2A1-28ED-4210-904F-EB966AC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0706-93F0-45ED-9BCC-85E7656C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C05C-8141-4064-A331-558109C2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1E93-D621-4DAA-B47C-E7205C37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491-DDDB-416D-9CE9-E8EE7CB7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DA9-46D2-4B5E-8C66-4F7D92F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D2B-37E3-47D4-B16D-FCD271DE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3C0-E65E-4179-8351-5D13E4CD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290-650E-4856-99F3-A2314EA2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94AE-0CC0-4743-A632-385D6CDD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4D6-B879-482F-882C-498AC857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10B-713D-4476-A170-1D7B4B1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90B-2DA3-4D44-A607-F0D6DE7D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FE2-1156-4B9A-9865-E7AA4DEC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240-A6C7-49F3-B7E4-649DCD73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3F6-3564-4B32-902D-5183114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5AE-FBA1-40EE-9534-98F994A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67F4-EC55-4F35-A8EA-F7BBD863B4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145-B909-4288-A49D-391C93225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THE                       BIBLE                    HYMNA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CHURCH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HARLOTTE, NORTH CAROL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10080"/>
            <a:ext cx="9144000" cy="2286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32004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THE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LAST GREAT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DAY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590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THE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BIBLE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HYMNA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CHURCH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HARLOTTE, NORTH CAROL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90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THE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BIBLE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HYMNA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PASSOVER 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FEAST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OF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UNLEAVENED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BREA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PENTECOST 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FEAST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OF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TRUMPET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TONEMENT 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FEAST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OF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TABERNACL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00:46:18Z</dcterms:created>
  <dc:creator>David Campbell</dc:creator>
  <dc:description>A gift to the Living Church of God.  June 18, 2010</dc:description>
  <dc:language>en-US</dc:language>
  <cp:lastModifiedBy>dwc</cp:lastModifiedBy>
  <dcterms:modified xsi:type="dcterms:W3CDTF">2010-06-23T06:03:56Z</dcterms:modified>
  <cp:revision>76</cp:revision>
  <dc:subject/>
  <dc:title>     Hym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