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37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As for 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’ll Call On Go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ath shall them seiz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o the tomb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ive they shall go dow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wickedness is in their home; among them abound their sin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as for 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’ll call on Go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will safety give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’ll hear me wh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cry aloud, at morning, noon and nigh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‘Twas not a fo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did derid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at I could endur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 hater thu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rose in prid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lse would I hide secur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thou it wa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friend and guid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did as equals mee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walked to God’s house side by sid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counsel blended swee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speech more smooth than butter wa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et in his heart was wa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re soft than oi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words appear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et sharp as drawn swords were the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Lord Thou wi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judgment si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bring them dow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wo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in the deep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darksome pi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ruin lay them low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6T01:17:34Z</dcterms:modified>
  <cp:revision>259</cp:revision>
  <dc:subject/>
  <dc:title>Slide 1</dc:title>
</cp:coreProperties>
</file>