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Waters of Babyl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Jerus’lem’s fa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 childr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dom sai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with h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unto the ground, even to the foundations!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ughter of Babyl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y ru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’ning 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ppy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rewardeth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st as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us hast d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waters of Babylon, there we wep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sat d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ung our harp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willow tre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, ye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remembered the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our capto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quired of us: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Sing a song of Zion now!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uld we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’s so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waters of Babylo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right h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et her skill, if Jerusalem I forge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fai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remember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tongu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leave unto my mou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we thou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Jerusal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e sat n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’s stream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our chief jo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remembered Jerusal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28:43Z</dcterms:modified>
  <cp:revision>259</cp:revision>
  <dc:subject/>
  <dc:title>Slide 1</dc:title>
</cp:coreProperties>
</file>