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God I Lift My Voic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the Most High strength no more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His promise failed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I think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reat work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use on wonders ol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talk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reat deed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is great like God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true way is holines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r removed from sin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God’s migh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m and streng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rael was sav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the waters of the sea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w and did obey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louds poured fort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ight-nings flashed; thunders rent the skies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rlwinds shoo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arth below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o led His flock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God I lift my voic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Him I cry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trouble come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I seek my Go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night I do not ceas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overwhelmed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remember God and moa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close my eye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onsider days of ol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rs of ancient tim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ommune with mine own heart, search and meditat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the Lord cast off His love, and no more be kind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is now my lot and trial?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His kindness fail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4:05:30Z</dcterms:modified>
  <cp:revision>268</cp:revision>
  <dc:subject/>
  <dc:title>Slide 1</dc:title>
</cp:coreProperties>
</file>