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It Is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 men shall flourish like the p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 as a ced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they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are plan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’s hou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shall gr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His cou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in age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bear frui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ch and green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shall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faithful evermo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Rock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it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ank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praises s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procla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teadfast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day and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ithfulness by n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music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lut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a solem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nd upon the ly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works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me gla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an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deeds will I s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re Thy works, Eternal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ep are Thy though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Most Hig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olish and senseless men will never kn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will under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ay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rout as gra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ildo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lourish for awhil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all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rooted and destroyed, while Thou 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more supre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4:06:13Z</dcterms:modified>
  <cp:revision>259</cp:revision>
  <dc:subject/>
  <dc:title>Slide 1</dc:title>
</cp:coreProperties>
</file>