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You did answer them; You forg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ave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, exalt the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Zion is most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intains the 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reigne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abov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ighty, He is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between the cherubim He si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He maintains the 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the Eternal On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 is God and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spoke unto His pries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pillar of the cloud He spo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m who kept His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es is among them, Aaron too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extoll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their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muel also called upon His na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did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swered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16:48Z</dcterms:modified>
  <cp:revision>259</cp:revision>
  <dc:subject/>
  <dc:title>Slide 1</dc:title>
</cp:coreProperties>
</file>