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sdom Begins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ear of the Lor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ment and truth are the works of His hand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com-mand-men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su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all d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uprightness and truth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forever endur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His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demption He sent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command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v’nant al-w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eadfast and s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forever will stand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 and rev’rend His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sdom begins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ear of the Lord: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praise en-dur-eth for ay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aws im-p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-der-stand-ing and gra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who he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be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ou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r whole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,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the upright are assembled for Go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ious works shal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-ev-er  en-dur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honor and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 end un-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eousness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works of wond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kes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may k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is go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com-pas-s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ac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ho fear Him our God will provid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His cov-’na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not forge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owed His peo-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ow’r of His works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nds of the heathen to gai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17:18:49Z</dcterms:modified>
  <cp:revision>266</cp:revision>
  <dc:subject/>
  <dc:title>Slide 1</dc:title>
</cp:coreProperties>
</file>