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lt of the Earth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the sal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salt shall lose its fla-vor, How can it be-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lt-y a-gain?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it is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for noth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t must b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rown a-wa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am-p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der-foot by me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the l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city on a hill-to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-not be hid-d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n-y-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 one cov-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light-ed lamp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ut it on a st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gives light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-’ry-on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your light shin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-fore m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ey may se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ood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o-ri-fy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-ther in heav’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the sal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the ligh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f the wor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ine un-til I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come a-g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7:01:45Z</dcterms:modified>
  <cp:revision>269</cp:revision>
  <dc:subject/>
  <dc:title>Slide 1</dc:title>
</cp:coreProperties>
</file>