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s Shall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K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all aroun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you’ll show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, you’re my sister and my broth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ev’ry friend and ev’ry fo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 if you love one an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give my life for all mankind, and call you at this special ti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e work and feed the flock; build your house upon the Roc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all aroun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you’ll sh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, you’re my sister and my broth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know, ev’ry friend and ev’ry fo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 if you love one an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new commandme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 will give, to magnif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y to li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each other 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do, with the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ve given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all aroun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you’ll show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, you’re my sister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broth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know, ev’ry friend and ev’ry fo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 if you love one an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called to be lukewarm or cold, but zealous like the men of o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e will of God above; grow in His eternal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43:21Z</dcterms:modified>
  <cp:revision>259</cp:revision>
  <dc:subject/>
  <dc:title>Slide 1</dc:title>
</cp:coreProperties>
</file>