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Is Well With My Soul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peace, like a rive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tendeth my way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sorrow lik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a billows roll: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ever my lo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has taught me to say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It is well,  it is we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my soul.”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Satan should buffe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trials should co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is bles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-sur-ance con-trol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Christ has regarde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elpless estat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as shed His own bloo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my soul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2971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, Lord, haste the da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the faith shall be s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 clouds be rolle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back as a scroll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trump shall resoun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Lord shall descend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so, it is we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my soul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17:35:49Z</dcterms:modified>
  <cp:revision>267</cp:revision>
  <dc:subject/>
  <dc:title>Slide 1</dc:title>
</cp:coreProperties>
</file>