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Almigh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th marvelous wisdom hath made th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ked thee with health, and with loving hand guided and stayed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oft in grie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th not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ought thee relief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reading His wings for to shade the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all that is in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hath life and breath, come now, with praises before H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A-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nd from His people ag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adly for ay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dore H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Almigh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cre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praise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thy heal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lv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e who hear, now to His temple draw n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in me in glad ador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’er all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ondrously reigne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elters thee und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ings, yea, so gently sustaine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thou not s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thy desi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r have bee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ed in what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-dain-eth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21:05Z</dcterms:modified>
  <cp:revision>261</cp:revision>
  <dc:subject/>
  <dc:title>Slide 1</dc:title>
</cp:coreProperties>
</file>