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Will Praise The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will praise Thee with my whole hear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ing Thy prai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all the go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bow t’ward Thy holy pl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ing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kind love so tru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than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 is enlarged; And when I cri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didst h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trengthened me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trength, O Lord; Kings 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then h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ing Th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s, they shall h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of Thy way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hall they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glory is g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God is hi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oor He respect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strikes the prou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from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v’reign he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n the mid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rouble I wal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ilt preser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y r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nd my li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ilt fulfill Thy purpose for 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teadfast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endure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8:16:27Z</dcterms:modified>
  <cp:revision>260</cp:revision>
  <dc:subject/>
  <dc:title>Slide 1</dc:title>
</cp:coreProperties>
</file>