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Law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th and Lov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not forget Thy law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I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comma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seek Thy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ar from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are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secutor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I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ed from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nsider h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love Thy law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and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y whole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cried to The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hear my prayer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keep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ditat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y precep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ight and d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up before the daw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r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hope is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voice accord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great lov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quicken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ursuers co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alice nea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o not keep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near 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ands are tru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founded the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valid for all ti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on my afflictio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love Thy law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05:31Z</dcterms:modified>
  <cp:revision>265</cp:revision>
  <dc:subject/>
  <dc:title>Slide 1</dc:title>
</cp:coreProperties>
</file>