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t. Zion Stands                    Most Beauti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have heard, we saw within the city of ou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whi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established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f Thy                         loving-kindness thought,    in Thy most holy pl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ccording to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 fills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                   is most great                         and greatly to be prais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city of our God, upon His holy hi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nt Zion st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beautiful,                        the joy of all the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the mighty King doth on her north side st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ithin her palaces our God is for a refug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l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s assemb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they did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y behel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mazed,                       they fled in great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ing troubled                 at Thy sight,                     they thence did haste a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0:23:09Z</dcterms:modified>
  <cp:revision>261</cp:revision>
  <dc:subject/>
  <dc:title>Slide 1</dc:title>
</cp:coreProperties>
</file>