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4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Ear Unt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Words, O Lo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I into Thy hou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l co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y abundant grace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 will worshi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y fea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ward Thy holy place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cause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atchful enemie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ead me by Thy grace,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n Thy righteousness, Thy w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ke straigh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fore my face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all who tru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e be gla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shout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praise proclaim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savest them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all rejoic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love Thy holy name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For Lord, unto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 righteous man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ou wilt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y blessing yield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favor Thou wilt compass him                            about as with a shield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ear unto my word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meditation weigh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 my loud cr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King, my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I to Thee will pray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Thou shalt early hear my voic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early will direct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prayer to The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looking up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 answer will expect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ou art not a God who do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wickedness delight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 evil sh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bide with The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r fool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tand in Thy sight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evildoe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dost hat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ut off shall liars be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bloody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ceitful ma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bhorred is by Thee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6:12:05Z</dcterms:modified>
  <cp:revision>260</cp:revision>
  <dc:subject/>
  <dc:title>Slide 1</dc:title>
</cp:coreProperties>
</file>