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world is at pe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roubles have ceas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beauty we s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whole world will be, it won’t be l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mb will peacefully dwell with the l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eopard will lie down with the ki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lf and the b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no longer be wi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ttle chi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people join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any a l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children will smile and laugh all the whil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t won’t be lo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mb will peacefully dwell with the l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eopard will lie down with the ki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lf and the b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no longer be wil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Little chi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3:20:49Z</dcterms:modified>
  <cp:revision>259</cp:revision>
  <dc:subject/>
  <dc:title>Slide 1</dc:title>
</cp:coreProperties>
</file>