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26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ove Never Fail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though I give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feed the poor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ut love I have not found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9714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give my bod-y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be burned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et still my hands are bound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ove nev-er fail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r seeks its own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 treasur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your youth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ove suffers long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love is kin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rejoices in the truth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though I speak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 tongues of men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yet I have not love,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though I am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s sounding brass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 sound not heard above,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ove nev-er fail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r seeks its own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 treasur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your youth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ove suffers long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love is kin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rejoices in the truth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Though I have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gift to teach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understand all things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with great faith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mountains move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et lit-tle joy it brings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ove nev-er fail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r seeks its own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 treasur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your youth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ove suffers long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love is kin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rejoices in the truth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18T18:25:55Z</dcterms:modified>
  <cp:revision>269</cp:revision>
  <dc:subject/>
  <dc:title>Slide 1</dc:title>
</cp:coreProperties>
</file>