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5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vel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Thy Dwelling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vel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Thy dwelling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host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e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my pray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Israe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a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ee is bett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n a thous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ther day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at I may fi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ne altar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Lord, my King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Go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vel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Thy dwelling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host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ou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longing, fainting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O living Go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a, the bi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 found its ho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ilt a ne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lay her young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at I may fi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ne altar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Lord, my King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Go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vel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Thy dwelling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host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dwell in Thy hou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ev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Thy prais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and happ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the ma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has fou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strength in The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stronger day by day, and shall in Zion dwell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03:42:53Z</dcterms:modified>
  <cp:revision>259</cp:revision>
  <dc:subject/>
  <dc:title>Slide 1</dc:title>
</cp:coreProperties>
</file>