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 Thou Away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 Thou away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will Thy wra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burn like a fir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fore hast Thou made all men in vain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, God, remember, fleeting is lif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man can li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ever see death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can escap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ow’r of the grav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is the form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, O my God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unto Davi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pledg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call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lave is scorn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I do b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sults of the worl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-with Thy foes mock Thy chosen on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, am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03:48:52Z</dcterms:modified>
  <cp:revision>259</cp:revision>
  <dc:subject/>
  <dc:title>Slide 1</dc:title>
</cp:coreProperties>
</file>