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Belongs t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make their ido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ir han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s of silver, gods of go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have mouths b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not spea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s b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not hea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-ra-el, trust in Go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who fear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bles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be y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and shield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belongs to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unto 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unto Thy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unto Thee belongs, truth and mercy su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ho tru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ho fear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mall and grea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be thei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and shield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belongs to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on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ne in heav’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done w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eases H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why do the heathen say, “Where is now your God?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-ra-el, trust in Go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be y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and shie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use of Aar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your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and shield is H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6:45:08Z</dcterms:modified>
  <cp:revision>260</cp:revision>
  <dc:subject/>
  <dc:title>Slide 1</dc:title>
</cp:coreProperties>
</file>