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For Chri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ellow work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’s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salvati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not rece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ace of God in v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urity and with love, let us ser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Lord and Mast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e pr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ward His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never be asham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’s 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alled to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will on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d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reconciled to God and let us commit our hearts and mi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Jesus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of all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aid He’s dwelling with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’s wal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peopl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promised He would guid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nd lead the p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ve tr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anyone is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he is a new creati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 He’s dwell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e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ons and daughte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e are the holy temple of the ev-er-living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’s 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alled to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will on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d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reconciled to God and let us commit our hearts and mi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Jesus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of all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old has passed away and all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made n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nistry of our Christ, one of reconciliati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ing pe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God the Fa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brethren, to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’s 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alled to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will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be d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reconciled to God and let us commit our hearts and mi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Jesus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of all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1:32:23Z</dcterms:modified>
  <cp:revision>260</cp:revision>
  <dc:subject/>
  <dc:title>Slide 1</dc:title>
</cp:coreProperties>
</file>