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0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lory to Thy Nam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aints in Thy splendor shall give Thee thank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prais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eclare Thy greatness, Thy wondrous works proclaim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29714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Kingdom and Thy powe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love reigneth over men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all the nation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v’ry ange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less Thy holy nam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name I bless, Lord, my King, forevermor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King of all age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nations Thee ador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ou alone art holy, Thy goodnes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ours forth fam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Lord, our G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King forever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lory to Thy nam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will extol The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God and King ador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bless Thy nam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Lord, from now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evermor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just and tru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ways, Lor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King of ev’ry ag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just and tru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ways, foreve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lory to Thy nam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shall not fear Thee and glorify Thy nam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worship The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Lord, through thi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ev’ry age?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mighty deed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judgment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righteousness reveale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mercy lasts forevermor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glorify Thee, Lor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6T22:10:39Z</dcterms:modified>
  <cp:revision>260</cp:revision>
  <dc:subject/>
  <dc:title>Slide 1</dc:title>
</cp:coreProperties>
</file>