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great day of God, t’will be nei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nor n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t even-ti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hall be l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hall be one day to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from Zion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 waters fl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ast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wes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shall be King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 shall there be one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that day shall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ll nations shall obe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of all the nations that are lef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Jerusalem shall g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even go there from year to y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ll keep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east of Booth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shall be one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, who is King over all the eart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the day will come, the day of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ur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bring all nations in that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Jerusal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take the city and share the spoi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very midst of the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our God Eternal shall go forth, and shall fight against our foe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great day of God, our Lord shall 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ear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Mount of Oli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st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mou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leave in two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shall be a vall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ammoth siz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valley you shall fl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God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King, and shall rule over all the eart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0:59:20Z</dcterms:modified>
  <cp:revision>260</cp:revision>
  <dc:subject/>
  <dc:title>Slide 1</dc:title>
</cp:coreProperties>
</file>