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, Eternal, O My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, Eternal, O my God, lift up Thy hand on hi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not the po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umble on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of Thy mem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judge the father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se beneath oppression s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man, who is but sprung of earth, may them oppress no 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icked in their pride  pursue and make the poor their pre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be taken in the snare which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thers lay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icked, thru his pride of face, on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never c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e counsels of his heart the Lord is not 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his heart he thus hath said, “I never moved shall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 adversity at all shall ever come to me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ursing, fraud, and foul deceit, his mouth is always fille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vanity and mischief lie beneath his tongue conceal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2:29:08Z</dcterms:modified>
  <cp:revision>263</cp:revision>
  <dc:subject/>
  <dc:title>Slide 1</dc:title>
</cp:coreProperties>
</file>