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9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re Shall I Go From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r Spirit, O God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f up to heaven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hold You are there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f down to hell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would so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ind me there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f I take wing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r dwell far out at sea,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n Your right han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hold m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 darkness come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night covers m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n the darkness hide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hing from God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a, even darknes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shine as the day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Eternal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both are alik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knew my lif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re before I was born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vast, O Go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the su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Your thoughts!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You have searche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a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passed my path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, O Eternal Go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now all my ways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before 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You are behind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is no word on my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ngue that You miss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downfall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uprising You know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r knowledge, Lor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so far above m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re shall I go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Your spiri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?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re shall I fle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your presenc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?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4:29:44Z</dcterms:modified>
  <cp:revision>266</cp:revision>
  <dc:subject/>
  <dc:title>Slide 1</dc:title>
</cp:coreProperties>
</file>