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2 </a:t>
            </a:r>
            <a:br>
              <a:rPr sz="3200"/>
            </a:br>
            <a:r>
              <a:rPr b="1" lang="nn-NO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Forsake Me No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reat Creato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justi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aches heave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t shown me many trials, Thou shalt give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e once 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lips will shout for joy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sing songs of praise to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oly 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st redeemed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forsake me no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ope and refu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Rock and fortre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cline Thine ear to me; save me from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just ma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my hel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rust, O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praise shall always be to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mouth is fill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praise and glory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forsake me no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not far from me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haste to help 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hope and praise Thee more and mor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tell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great work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when I’m old forsake me no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enem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me pla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ay, “His God will not protect him;”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forsake me no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3:59:31Z</dcterms:modified>
  <cp:revision>259</cp:revision>
  <dc:subject/>
  <dc:title>Slide 1</dc:title>
</cp:coreProperties>
</file>