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st Israel Kee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Go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 decla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moking wra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ry br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y people’s prayer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turn to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ace div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us to sh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ost Israel k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in time of ne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eade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flock of sh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loved 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seph’s se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it’st betw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erubs bright, between their wings outsp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ine forth, and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cloud give l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foes Thy drea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Benjamin’s view and in Manasseh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 Thy streng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be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 us by Thy m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s aga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ace div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us, O God, 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us to sh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5:57Z</dcterms:modified>
  <cp:revision>260</cp:revision>
  <dc:subject/>
  <dc:title>Slide 1</dc:title>
</cp:coreProperties>
</file>