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am the God who brought you ou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rom the lan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-gyp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Isr’e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wide your mou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urely then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it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Isra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not heed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ould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if they on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d obeyed,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have surely free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a-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chor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a joyful no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out the harp and tim-br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, sound the dru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solemn feast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and a law which God has ordained for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a-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chor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a joyful no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out the har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imbr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, sound the dru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solemn feast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 law which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ordained for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ear, O My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voi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admon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r’e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have n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ther, foreign god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the God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eed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were troubled you did ca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elivered Isr’el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swer’d 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cret place; with thunder He did comman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7:24Z</dcterms:modified>
  <cp:revision>261</cp:revision>
  <dc:subject/>
  <dc:title>Slide 1</dc:title>
</cp:coreProperties>
</file>