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e Will I Love, O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deadly shaf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ound He threw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foes dispers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wild retr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burning dar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lightnings flew, scattering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ore defea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ent from heav’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rescued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waters swelling high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ose that hate me set me fr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es that strong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re than I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ho but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uld be adored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but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n us befrien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is a roc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sides the Lord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else is abl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to defen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Eternal I relied, and over foes prevail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Almigh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my s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lofty wal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fearless scal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e will I lov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my migh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rock, my hel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aving pow’r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, my tru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hield in figh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reat salvati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igh tow’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my pray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whom all pra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ow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shall I b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atchful c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fely be guard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y fo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my distr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alled on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ised my pray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voice He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emple hea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cry ascend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s 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owed the heav’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igh abo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me in the dar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n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on a cherub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wiftly ro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the wing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nd His fl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9:11:54Z</dcterms:modified>
  <cp:revision>261</cp:revision>
  <dc:subject/>
  <dc:title>Slide 1</dc:title>
</cp:coreProperties>
</file>