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Jud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not silen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ot their schem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e name of Isra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blotted ou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them all to sh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y would Your son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jud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On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arth is Your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n know that you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Most Hi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n know Your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know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understan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die like me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jud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On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arth is Your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of magistrat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judgments gives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He as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ow long will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us unjustly judg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respect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cked’s caus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righteous blame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e the po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atherles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e them righteously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found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been move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n darkness wal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es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no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will understa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sai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like go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 most High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y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ie like me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princes fal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8:40Z</dcterms:modified>
  <cp:revision>268</cp:revision>
  <dc:subject/>
  <dc:title>Slide 1</dc:title>
</cp:coreProperties>
</file>