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ver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igns supre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judgmen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ll the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Abrah’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aac and Jacob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Him,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d is forever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onfirm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venan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 thous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en-er-a-tion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-ra-e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gave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m a possess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n ev-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st-ing dom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ir por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mo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naan’s l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gave to th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Abrah’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aac and Jacob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Him,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ll up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acred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His deeds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n among nation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songs of p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ll of all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rvelous wonder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in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st holy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heart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rejoi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eek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ear His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Him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and ever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orget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nderful work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rememb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f His judgmen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dee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onders g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rememb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ildren of Isr’e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hosen one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nd forever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is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19:24Z</dcterms:modified>
  <cp:revision>261</cp:revision>
  <dc:subject/>
  <dc:title>Slide 1</dc:title>
</cp:coreProperties>
</file>