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arity will suffer long, charity is kin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nvies not                         nor vaunts itself,                behaveth not unseeml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eth not                             to have her way,                      nor is easily anger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I am as noth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arity rejoiceth n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iniquit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rejoiceth in the truth; believes and bea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pes all thing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ndures all thing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thinketh evi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I am as noth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ther there be prophecies, whether there be knowledg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se shall likew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ass aw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charity remaine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 speak with tongues of m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 speak as angel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ith and hop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hari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f these ab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mong the three of these, charity is greates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become as noth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become 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unding bra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a tinkling cymba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gift of prophecy, still I am as noth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 kn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mysteries, though I have all knowledg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become as noth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 give all I possess, let my body bur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I am as noth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5T21:24:06Z</dcterms:modified>
  <cp:revision>260</cp:revision>
  <dc:subject/>
  <dc:title>Slide 1</dc:title>
</cp:coreProperties>
</file>