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’s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sig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s gr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’s l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e stri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mighty k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s-ra-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Your nam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Your fa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-ever-mor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oth endur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ev’ry ag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generation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t to com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Hallelujah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’s Na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hom you ser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God’s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raise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cour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chos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msel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s prized possession, Is-ra-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god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He plea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do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e ear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eas and dep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ceans w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s mis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nds the light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r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Egy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t wa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uck the firstborn both of man and bea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46:47Z</dcterms:modified>
  <cp:revision>260</cp:revision>
  <dc:subject/>
  <dc:title>Slide 1</dc:title>
</cp:coreProperties>
</file>