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2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e Faith, One Lov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glory is extended, With ev’ry colo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quality and stra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pon Thy loo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diff’renc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come one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pleasing tribut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e and Thy So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many natio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earth do we hai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many tongu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form our praise to The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cross the sea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mountain, isl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deep val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sons and daughte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one love agre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s we strength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e another in The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Spirit bin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perfect harmon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971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out the earth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Father, we revere The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971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out the earth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Father, we revere The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d by Thy So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gether we stand tru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e faith, one lov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Spirit binds us firmly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sons and daughters blessed in Thy view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many lands we raise our eyes toward The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voices join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one great famil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d by Thy So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gether we stand tru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e faith, one lov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Spirit binds us firmly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sons and daughters blessed in Thy view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many lands we raise our eyes toward The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voices join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one great famil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many liv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woven, fitly blended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tapestr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reated by Thy hand. Within each threa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23:02:57Z</dcterms:modified>
  <cp:revision>263</cp:revision>
  <dc:subject/>
  <dc:title>Slide 1</dc:title>
</cp:coreProperties>
</file>